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CE1C-ECEE-4A30-B7BA-1A025FEF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387-6B31-4F0B-8DEB-4C5C51FF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AF8-AA62-4E2A-A782-FB660286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BD5-2D94-4048-9B34-116ED742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A9A-0F92-4055-B373-9F208BC1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B457-1A7F-4B91-A341-9E419576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354-0371-4F03-B0FA-39412BD9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E82-1BAB-414B-81F2-696BEF06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713-1B36-474F-B36B-1F6A6AEF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B35-3187-4E00-88DF-6998BFC9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148-F1CB-4B88-B638-8D6EE543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293D-4D64-426E-9FD0-B458BADF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375C-D428-4688-968A-6F0A349E2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E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33000" y="304920"/>
            <a:ext cx="40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e electron volt (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520" y="129528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measure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33200" y="2209680"/>
            <a:ext cx="289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qV = ½mv</a:t>
            </a:r>
            <a:r>
              <a:rPr b="0" lang="en-GB" sz="4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9960" y="3749760"/>
            <a:ext cx="81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eV = Energy gained when an electron is subjected to a potential difference of 1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3160" y="5257800"/>
            <a:ext cx="70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eV = 1.6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 x 1V = 1.6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629400" cy="3927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692360" y="333360"/>
            <a:ext cx="55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illikan’s Oil Drop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4560" y="907920"/>
            <a:ext cx="62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easure charge on an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164200" y="3000240"/>
            <a:ext cx="365040" cy="639720"/>
          </a:xfrm>
          <a:prstGeom prst="downArrow">
            <a:avLst>
              <a:gd name="adj1" fmla="val 50000"/>
              <a:gd name="adj2" fmla="val 4381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164200" y="1718640"/>
            <a:ext cx="365040" cy="641160"/>
          </a:xfrm>
          <a:prstGeom prst="downArrow">
            <a:avLst>
              <a:gd name="adj1" fmla="val 50000"/>
              <a:gd name="adj2" fmla="val 4391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36800" y="2954160"/>
            <a:ext cx="3048120" cy="59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(weight) = 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8000" y="1811160"/>
            <a:ext cx="48769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(electric attraction) = q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5676840"/>
            <a:ext cx="2498760" cy="7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0000"/>
                </a:solidFill>
                <a:latin typeface="Arial"/>
              </a:rPr>
              <a:t>mg = q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2000" y="2781360"/>
            <a:ext cx="249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il drop (charge 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5665320" y="289368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88400" y="8208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4000" y="3944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91120" y="2436840"/>
            <a:ext cx="50472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4560" y="488484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oil drop hovers th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04360" y="781200"/>
            <a:ext cx="0" cy="165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604360" y="2725560"/>
            <a:ext cx="0" cy="194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292360" y="4668840"/>
            <a:ext cx="331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292720" y="4365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219640" y="781200"/>
            <a:ext cx="338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19640" y="76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973080"/>
            <a:ext cx="3666960" cy="295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8360" y="2581200"/>
            <a:ext cx="43164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172360" y="24368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8760" y="108000"/>
            <a:ext cx="40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Forces experienced by oil dro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19640" y="4076640"/>
            <a:ext cx="3666960" cy="29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33880" y="380880"/>
            <a:ext cx="32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unning bi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177336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n ionise oil drop (using radioactive sour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2852640"/>
            <a:ext cx="81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-adjust the voltage (and therefore the size of E) to make oil drop hover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3640" y="4511520"/>
            <a:ext cx="809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in voltage proportional to charge on an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484360" y="1268280"/>
            <a:ext cx="180036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54560" y="765000"/>
            <a:ext cx="46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 or remov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pler’s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pl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582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pl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04920" y="1738440"/>
            <a:ext cx="853416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446480" y="304920"/>
            <a:ext cx="5901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Apple and moon experi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New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6840" y="3733920"/>
            <a:ext cx="74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Acceleration of Moon towards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5760" y="4462560"/>
            <a:ext cx="80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Acceleration of an apple towards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3400" y="2819520"/>
            <a:ext cx="42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wton calculated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8320" y="1676520"/>
            <a:ext cx="87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Question - how does gravity extend into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059640" y="333360"/>
            <a:ext cx="28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lusio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8000" y="126828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9933"/>
                </a:solidFill>
                <a:latin typeface="Arial"/>
              </a:rPr>
              <a:t>Angular acceleration of moon towards earth (due to circular mo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22880" y="1844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9933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06920" y="1268280"/>
            <a:ext cx="349272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9933"/>
                </a:solidFill>
                <a:latin typeface="Arial"/>
              </a:rPr>
              <a:t>Strength of earth’s gravity at 60R</a:t>
            </a:r>
            <a:r>
              <a:rPr b="0" lang="en-GB" sz="3600" spc="-1" strike="noStrike" baseline="-25000">
                <a:solidFill>
                  <a:srgbClr val="339933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5772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Gravity changes at a rate of inverse square of dist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5229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This extended gravitational force out into the universe - an amazing result (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10760" y="331920"/>
            <a:ext cx="44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Gravitational force,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320200" y="1295280"/>
            <a:ext cx="3943800" cy="1933200"/>
            <a:chOff x="2320200" y="1295280"/>
            <a:chExt cx="3943800" cy="1933200"/>
          </a:xfrm>
        </p:grpSpPr>
        <p:sp>
          <p:nvSpPr>
            <p:cNvPr id="276" name=""/>
            <p:cNvSpPr/>
            <p:nvPr/>
          </p:nvSpPr>
          <p:spPr>
            <a:xfrm>
              <a:off x="2320200" y="1295280"/>
              <a:ext cx="372888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F = -Gm</a:t>
              </a:r>
              <a:r>
                <a:rPr b="0" lang="en-GB" sz="5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0" lang="en-GB" sz="5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05840" y="2311560"/>
              <a:ext cx="63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GB" sz="54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97120" y="2235240"/>
              <a:ext cx="266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51280" y="3414600"/>
            <a:ext cx="877428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= gravitational force,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 = gravitational constant, 6.67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 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kg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 mass of first object,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mass of second object,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 = distance between the two objects,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1280" y="1413000"/>
            <a:ext cx="5185080" cy="20890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1054080"/>
            <a:ext cx="503280" cy="5032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3600" y="90792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er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60520" y="361944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er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195640" y="1341360"/>
            <a:ext cx="0" cy="2160720"/>
          </a:xfrm>
          <a:prstGeom prst="line">
            <a:avLst/>
          </a:prstGeom>
          <a:ln w="572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3645000"/>
            <a:ext cx="5256360" cy="0"/>
          </a:xfrm>
          <a:prstGeom prst="line">
            <a:avLst/>
          </a:prstGeom>
          <a:ln w="572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3920" y="6093000"/>
            <a:ext cx="84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- Potential gradient = Electrical Field Streng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13440" y="213372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Symbol"/>
                <a:ea typeface="Symbol"/>
              </a:rPr>
              <a:t>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3440" y="3573360"/>
            <a:ext cx="6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Symbol"/>
                <a:ea typeface="Symbol"/>
              </a:rPr>
              <a:t>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8160" y="123840"/>
            <a:ext cx="32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Electrical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1280" y="4365720"/>
            <a:ext cx="4428720" cy="1167120"/>
            <a:chOff x="341280" y="4365720"/>
            <a:chExt cx="4428720" cy="1167120"/>
          </a:xfrm>
        </p:grpSpPr>
        <p:sp>
          <p:nvSpPr>
            <p:cNvPr id="54" name=""/>
            <p:cNvSpPr/>
            <p:nvPr/>
          </p:nvSpPr>
          <p:spPr>
            <a:xfrm>
              <a:off x="341280" y="4595760"/>
              <a:ext cx="37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Gradient of slope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69440" y="43657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1" lang="en-GB" sz="32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88160" y="49514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1" lang="en-GB" sz="32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86360" y="4956120"/>
              <a:ext cx="64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 rot="16200000">
            <a:off x="6199200" y="3860640"/>
            <a:ext cx="288720" cy="4321080"/>
          </a:xfrm>
          <a:custGeom>
            <a:avLst/>
            <a:gdLst>
              <a:gd name="textAreaLeft" fmla="*/ 0 w 288720"/>
              <a:gd name="textAreaRight" fmla="*/ 104040 w 28872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64280" y="5013360"/>
            <a:ext cx="31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s if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 bigger an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3600" y="62064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+ve charge moving towards –v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2948E-006 L 0.51597 0.27792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352680" y="1600200"/>
            <a:ext cx="4953240" cy="47242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1117440"/>
            <a:ext cx="1066680" cy="177840"/>
          </a:xfrm>
          <a:custGeom>
            <a:avLst/>
            <a:gdLst/>
            <a:ahLst/>
            <a:rect l="l" t="t" r="r" b="b"/>
            <a:pathLst>
              <a:path w="672" h="112">
                <a:moveTo>
                  <a:pt x="0" y="112"/>
                </a:moveTo>
                <a:cubicBezTo>
                  <a:pt x="172" y="56"/>
                  <a:pt x="344" y="0"/>
                  <a:pt x="672" y="1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77600" y="228600"/>
            <a:ext cx="549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Earth orbiting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80880" y="1676520"/>
            <a:ext cx="5334120" cy="2531160"/>
            <a:chOff x="380880" y="1676520"/>
            <a:chExt cx="5334120" cy="2531160"/>
          </a:xfrm>
        </p:grpSpPr>
        <p:sp>
          <p:nvSpPr>
            <p:cNvPr id="284" name=""/>
            <p:cNvSpPr/>
            <p:nvPr/>
          </p:nvSpPr>
          <p:spPr>
            <a:xfrm>
              <a:off x="2666880" y="2666880"/>
              <a:ext cx="304812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0880" y="1676520"/>
              <a:ext cx="28195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This is the gravitational force between the sun and ear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649840" y="1413000"/>
            <a:ext cx="360360" cy="5040360"/>
            <a:chOff x="5649840" y="1413000"/>
            <a:chExt cx="360360" cy="5040360"/>
          </a:xfrm>
        </p:grpSpPr>
        <p:grpSp>
          <p:nvGrpSpPr>
            <p:cNvPr id="287" name=""/>
            <p:cNvGrpSpPr/>
            <p:nvPr/>
          </p:nvGrpSpPr>
          <p:grpSpPr>
            <a:xfrm>
              <a:off x="5649840" y="1413000"/>
              <a:ext cx="360360" cy="5040360"/>
              <a:chOff x="5649840" y="1413000"/>
              <a:chExt cx="360360" cy="5040360"/>
            </a:xfrm>
          </p:grpSpPr>
          <p:sp>
            <p:nvSpPr>
              <p:cNvPr id="288" name=""/>
              <p:cNvSpPr/>
              <p:nvPr/>
            </p:nvSpPr>
            <p:spPr>
              <a:xfrm>
                <a:off x="5829480" y="1600200"/>
                <a:ext cx="0" cy="236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649840" y="1413000"/>
                <a:ext cx="36036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>
                <a:off x="5829480" y="3933720"/>
                <a:ext cx="0" cy="2519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5829480" y="22766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86320" y="3568680"/>
            <a:ext cx="885960" cy="78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60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360080" y="333360"/>
            <a:ext cx="62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irement for an object to or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69520" y="1484280"/>
            <a:ext cx="4461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Arial"/>
              </a:rPr>
              <a:t>gravitational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= F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Arial"/>
              </a:rPr>
              <a:t>centripe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883120" y="2276640"/>
            <a:ext cx="3260880" cy="1501920"/>
            <a:chOff x="5883120" y="2276640"/>
            <a:chExt cx="3260880" cy="1501920"/>
          </a:xfrm>
        </p:grpSpPr>
        <p:sp>
          <p:nvSpPr>
            <p:cNvPr id="296" name=""/>
            <p:cNvSpPr/>
            <p:nvPr/>
          </p:nvSpPr>
          <p:spPr>
            <a:xfrm>
              <a:off x="5883120" y="2709720"/>
              <a:ext cx="3260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Needed for circular mo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6012000" y="2276640"/>
              <a:ext cx="504720" cy="5047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971640" y="2276280"/>
            <a:ext cx="2900160" cy="1500840"/>
            <a:chOff x="971640" y="2276280"/>
            <a:chExt cx="2900160" cy="1500840"/>
          </a:xfrm>
        </p:grpSpPr>
        <p:sp>
          <p:nvSpPr>
            <p:cNvPr id="299" name=""/>
            <p:cNvSpPr/>
            <p:nvPr/>
          </p:nvSpPr>
          <p:spPr>
            <a:xfrm>
              <a:off x="971640" y="2708280"/>
              <a:ext cx="2900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90</a:t>
              </a:r>
              <a:r>
                <a:rPr b="0" lang="en-GB" sz="32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</a:t>
              </a: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 to velocity of objec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340000" y="2276280"/>
              <a:ext cx="360360" cy="4316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79280" y="5805360"/>
            <a:ext cx="896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.B.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mass at centre of orbit,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mass of satel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509920" y="4019400"/>
            <a:ext cx="3817800" cy="1502640"/>
            <a:chOff x="2509920" y="4019400"/>
            <a:chExt cx="3817800" cy="1502640"/>
          </a:xfrm>
        </p:grpSpPr>
        <p:sp>
          <p:nvSpPr>
            <p:cNvPr id="303" name=""/>
            <p:cNvSpPr/>
            <p:nvPr/>
          </p:nvSpPr>
          <p:spPr>
            <a:xfrm>
              <a:off x="2509920" y="4019400"/>
              <a:ext cx="19076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Gm</a:t>
              </a:r>
              <a:r>
                <a:rPr b="0" lang="en-GB" sz="4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0" lang="en-GB" sz="4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49280" y="4757760"/>
              <a:ext cx="54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02080" y="482292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09000" y="4137120"/>
              <a:ext cx="50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40360" y="4021200"/>
              <a:ext cx="128736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0" lang="en-GB" sz="4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40360" y="482292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07200" y="475632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18400" y="396720"/>
            <a:ext cx="27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emb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21080" y="333360"/>
            <a:ext cx="158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v = 2</a:t>
            </a:r>
            <a:r>
              <a:rPr b="0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351680" y="9828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73560" y="982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143440" y="1969920"/>
            <a:ext cx="4285800" cy="1635840"/>
            <a:chOff x="2143440" y="1969920"/>
            <a:chExt cx="4285800" cy="1635840"/>
          </a:xfrm>
        </p:grpSpPr>
        <p:sp>
          <p:nvSpPr>
            <p:cNvPr id="315" name=""/>
            <p:cNvSpPr/>
            <p:nvPr/>
          </p:nvSpPr>
          <p:spPr>
            <a:xfrm>
              <a:off x="2143440" y="1969920"/>
              <a:ext cx="19076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Gm</a:t>
              </a:r>
              <a:r>
                <a:rPr b="0" lang="en-GB" sz="4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0" lang="en-GB" sz="4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82800" y="2787480"/>
              <a:ext cx="54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35240" y="278748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42160" y="2101680"/>
              <a:ext cx="50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73880" y="2003400"/>
              <a:ext cx="175536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0" lang="en-GB" sz="4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0" lang="en-GB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76920" y="276516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48160" y="2841480"/>
              <a:ext cx="70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290760" y="3933720"/>
            <a:ext cx="3110040" cy="1618560"/>
            <a:chOff x="3290760" y="3933720"/>
            <a:chExt cx="3110040" cy="1618560"/>
          </a:xfrm>
        </p:grpSpPr>
        <p:sp>
          <p:nvSpPr>
            <p:cNvPr id="323" name=""/>
            <p:cNvSpPr/>
            <p:nvPr/>
          </p:nvSpPr>
          <p:spPr>
            <a:xfrm>
              <a:off x="3290760" y="3933720"/>
              <a:ext cx="70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42160" y="3955680"/>
              <a:ext cx="50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79160" y="3933720"/>
              <a:ext cx="1289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0" lang="en-GB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76920" y="461952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42880" y="4695480"/>
              <a:ext cx="12614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Gm</a:t>
              </a:r>
              <a:r>
                <a:rPr b="0" lang="en-GB" sz="4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589800" y="4149720"/>
            <a:ext cx="23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(Kepler 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203640" y="189000"/>
            <a:ext cx="5703120" cy="1368360"/>
            <a:chOff x="3203640" y="189000"/>
            <a:chExt cx="5703120" cy="1368360"/>
          </a:xfrm>
        </p:grpSpPr>
        <p:sp>
          <p:nvSpPr>
            <p:cNvPr id="330" name=""/>
            <p:cNvSpPr/>
            <p:nvPr/>
          </p:nvSpPr>
          <p:spPr>
            <a:xfrm>
              <a:off x="6085080" y="189000"/>
              <a:ext cx="282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9900"/>
                  </a:solidFill>
                  <a:latin typeface="Arial"/>
                </a:rPr>
                <a:t>Very importa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03640" y="260280"/>
              <a:ext cx="2376360" cy="129708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435280" y="476280"/>
              <a:ext cx="649080" cy="1443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11280" y="90792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satellite must be travelling fast enough for its orbit radius (Kepler 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2781360"/>
            <a:ext cx="70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Not faster enough - orbit will colla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346716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oo fast - will overcome gravitational forces and e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060720" y="33336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ypes of or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920" y="129528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ostatio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920" y="37339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641760" y="1371600"/>
            <a:ext cx="4267080" cy="1785600"/>
            <a:chOff x="3641760" y="1371600"/>
            <a:chExt cx="4267080" cy="1785600"/>
          </a:xfrm>
        </p:grpSpPr>
        <p:sp>
          <p:nvSpPr>
            <p:cNvPr id="340" name=""/>
            <p:cNvSpPr/>
            <p:nvPr/>
          </p:nvSpPr>
          <p:spPr>
            <a:xfrm>
              <a:off x="3641760" y="1371600"/>
              <a:ext cx="4267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Relative to the earth it doesn’t mov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43920" y="251460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T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725360" y="25146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4 hou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419640" y="3825720"/>
            <a:ext cx="5724000" cy="2630160"/>
            <a:chOff x="3419640" y="3825720"/>
            <a:chExt cx="5724000" cy="2630160"/>
          </a:xfrm>
        </p:grpSpPr>
        <p:sp>
          <p:nvSpPr>
            <p:cNvPr id="344" name=""/>
            <p:cNvSpPr/>
            <p:nvPr/>
          </p:nvSpPr>
          <p:spPr>
            <a:xfrm>
              <a:off x="3419640" y="3825720"/>
              <a:ext cx="5724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Orbits N-S (over the poles), the earth rotates and so it looks at a different place each orbit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21440" y="581328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T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496400" y="5811840"/>
            <a:ext cx="24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90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08760" y="2060640"/>
            <a:ext cx="75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re is a force there is an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95600" y="2851200"/>
            <a:ext cx="17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F = 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385920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force is due to gravitational forces then acceleration is acceleration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22520" y="5227560"/>
            <a:ext cx="17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F = m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30492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Gravitational field strength,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44240" y="963720"/>
            <a:ext cx="46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better known as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755640" y="184464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words, gravitational force per unit mass acting at a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56720" y="54936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4213800" y="476280"/>
            <a:ext cx="1395360" cy="1279800"/>
            <a:chOff x="4213800" y="476280"/>
            <a:chExt cx="1395360" cy="1279800"/>
          </a:xfrm>
        </p:grpSpPr>
        <p:sp>
          <p:nvSpPr>
            <p:cNvPr id="356" name=""/>
            <p:cNvSpPr/>
            <p:nvPr/>
          </p:nvSpPr>
          <p:spPr>
            <a:xfrm>
              <a:off x="4213800" y="476280"/>
              <a:ext cx="135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g = 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06160" y="1052640"/>
              <a:ext cx="60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03640" y="112536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332000" y="479268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207600" y="3141720"/>
            <a:ext cx="2477520" cy="1346400"/>
            <a:chOff x="3207600" y="3141720"/>
            <a:chExt cx="2477520" cy="1346400"/>
          </a:xfrm>
        </p:grpSpPr>
        <p:sp>
          <p:nvSpPr>
            <p:cNvPr id="361" name=""/>
            <p:cNvSpPr/>
            <p:nvPr/>
          </p:nvSpPr>
          <p:spPr>
            <a:xfrm>
              <a:off x="3207600" y="3141720"/>
              <a:ext cx="2477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F = -GM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29880" y="3784680"/>
              <a:ext cx="51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09840" y="3833640"/>
              <a:ext cx="121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727960" y="4656240"/>
            <a:ext cx="1604160" cy="1366920"/>
            <a:chOff x="5727960" y="4656240"/>
            <a:chExt cx="1604160" cy="1366920"/>
          </a:xfrm>
        </p:grpSpPr>
        <p:sp>
          <p:nvSpPr>
            <p:cNvPr id="365" name=""/>
            <p:cNvSpPr/>
            <p:nvPr/>
          </p:nvSpPr>
          <p:spPr>
            <a:xfrm>
              <a:off x="6245280" y="53434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64240" y="5319720"/>
              <a:ext cx="51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27960" y="4656240"/>
              <a:ext cx="1604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= -G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207960" y="4654440"/>
            <a:ext cx="24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g = -G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210200" y="5318280"/>
            <a:ext cx="1256400" cy="703440"/>
            <a:chOff x="4210200" y="5318280"/>
            <a:chExt cx="1256400" cy="703440"/>
          </a:xfrm>
        </p:grpSpPr>
        <p:sp>
          <p:nvSpPr>
            <p:cNvPr id="370" name=""/>
            <p:cNvSpPr/>
            <p:nvPr/>
          </p:nvSpPr>
          <p:spPr>
            <a:xfrm>
              <a:off x="4531320" y="5318280"/>
              <a:ext cx="93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mr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10200" y="534348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333440" y="3284640"/>
            <a:ext cx="11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85680" y="5373360"/>
            <a:ext cx="2217960" cy="1013400"/>
            <a:chOff x="985680" y="5373360"/>
            <a:chExt cx="2217960" cy="1013400"/>
          </a:xfrm>
        </p:grpSpPr>
        <p:sp>
          <p:nvSpPr>
            <p:cNvPr id="374" name=""/>
            <p:cNvSpPr/>
            <p:nvPr/>
          </p:nvSpPr>
          <p:spPr>
            <a:xfrm>
              <a:off x="985680" y="5805360"/>
              <a:ext cx="21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units N kg</a:t>
              </a:r>
              <a:r>
                <a:rPr b="0" lang="en-GB" sz="3200" spc="-1" strike="noStrike" baseline="30000">
                  <a:solidFill>
                    <a:srgbClr val="333399"/>
                  </a:solidFill>
                  <a:latin typeface="Arial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2771640" y="5373360"/>
              <a:ext cx="43200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2800" y="914400"/>
            <a:ext cx="62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012080" y="816120"/>
            <a:ext cx="175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= m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20574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ored ability to do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81600" y="3962520"/>
            <a:ext cx="8548920" cy="2090160"/>
            <a:chOff x="381600" y="3962520"/>
            <a:chExt cx="8548920" cy="2090160"/>
          </a:xfrm>
        </p:grpSpPr>
        <p:sp>
          <p:nvSpPr>
            <p:cNvPr id="380" name=""/>
            <p:cNvSpPr/>
            <p:nvPr/>
          </p:nvSpPr>
          <p:spPr>
            <a:xfrm>
              <a:off x="381600" y="3962520"/>
              <a:ext cx="257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333399"/>
                  </a:solidFill>
                  <a:latin typeface="Arial"/>
                </a:rPr>
                <a:t>Remember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6520" y="4724280"/>
              <a:ext cx="82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333399"/>
                  </a:solidFill>
                  <a:latin typeface="Arial"/>
                </a:rPr>
                <a:t>work = force x distance </a:t>
              </a:r>
              <a:r>
                <a:rPr b="0" lang="en-GB" sz="2800" spc="-1" strike="noStrike">
                  <a:solidFill>
                    <a:srgbClr val="333399"/>
                  </a:solidFill>
                  <a:latin typeface="Arial"/>
                </a:rPr>
                <a:t>(in direction of force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54280" y="5410080"/>
              <a:ext cx="194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333399"/>
                  </a:solidFill>
                  <a:latin typeface="Arial"/>
                </a:rPr>
                <a:t>= mg x 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685800" y="2057400"/>
            <a:ext cx="8458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else has done work to get the object to tha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56760" y="189000"/>
            <a:ext cx="67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Uniform Field (near surface of Ear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737080" y="42840"/>
            <a:ext cx="33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hange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 in G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23880" y="5549760"/>
            <a:ext cx="5715000" cy="711360"/>
          </a:xfrm>
          <a:custGeom>
            <a:avLst/>
            <a:gdLst/>
            <a:ahLst/>
            <a:rect l="l" t="t" r="r" b="b"/>
            <a:pathLst>
              <a:path w="3600" h="448">
                <a:moveTo>
                  <a:pt x="0" y="440"/>
                </a:moveTo>
                <a:cubicBezTo>
                  <a:pt x="76" y="396"/>
                  <a:pt x="152" y="352"/>
                  <a:pt x="192" y="296"/>
                </a:cubicBezTo>
                <a:cubicBezTo>
                  <a:pt x="232" y="240"/>
                  <a:pt x="216" y="96"/>
                  <a:pt x="240" y="104"/>
                </a:cubicBezTo>
                <a:cubicBezTo>
                  <a:pt x="264" y="112"/>
                  <a:pt x="288" y="288"/>
                  <a:pt x="336" y="344"/>
                </a:cubicBezTo>
                <a:cubicBezTo>
                  <a:pt x="384" y="400"/>
                  <a:pt x="464" y="448"/>
                  <a:pt x="528" y="440"/>
                </a:cubicBezTo>
                <a:cubicBezTo>
                  <a:pt x="592" y="432"/>
                  <a:pt x="680" y="352"/>
                  <a:pt x="720" y="296"/>
                </a:cubicBezTo>
                <a:cubicBezTo>
                  <a:pt x="760" y="240"/>
                  <a:pt x="752" y="104"/>
                  <a:pt x="768" y="104"/>
                </a:cubicBezTo>
                <a:cubicBezTo>
                  <a:pt x="784" y="104"/>
                  <a:pt x="776" y="240"/>
                  <a:pt x="816" y="296"/>
                </a:cubicBezTo>
                <a:cubicBezTo>
                  <a:pt x="856" y="352"/>
                  <a:pt x="936" y="440"/>
                  <a:pt x="1008" y="440"/>
                </a:cubicBezTo>
                <a:cubicBezTo>
                  <a:pt x="1080" y="440"/>
                  <a:pt x="1208" y="352"/>
                  <a:pt x="1248" y="296"/>
                </a:cubicBezTo>
                <a:cubicBezTo>
                  <a:pt x="1288" y="240"/>
                  <a:pt x="1232" y="96"/>
                  <a:pt x="1248" y="104"/>
                </a:cubicBezTo>
                <a:cubicBezTo>
                  <a:pt x="1264" y="112"/>
                  <a:pt x="1280" y="296"/>
                  <a:pt x="1344" y="344"/>
                </a:cubicBezTo>
                <a:cubicBezTo>
                  <a:pt x="1408" y="392"/>
                  <a:pt x="1552" y="416"/>
                  <a:pt x="1632" y="392"/>
                </a:cubicBezTo>
                <a:cubicBezTo>
                  <a:pt x="1712" y="368"/>
                  <a:pt x="1792" y="256"/>
                  <a:pt x="1824" y="200"/>
                </a:cubicBezTo>
                <a:cubicBezTo>
                  <a:pt x="1856" y="144"/>
                  <a:pt x="1808" y="40"/>
                  <a:pt x="1824" y="56"/>
                </a:cubicBezTo>
                <a:cubicBezTo>
                  <a:pt x="1840" y="72"/>
                  <a:pt x="1848" y="240"/>
                  <a:pt x="1920" y="296"/>
                </a:cubicBezTo>
                <a:cubicBezTo>
                  <a:pt x="1992" y="352"/>
                  <a:pt x="2168" y="408"/>
                  <a:pt x="2256" y="392"/>
                </a:cubicBezTo>
                <a:cubicBezTo>
                  <a:pt x="2344" y="376"/>
                  <a:pt x="2416" y="256"/>
                  <a:pt x="2448" y="200"/>
                </a:cubicBezTo>
                <a:cubicBezTo>
                  <a:pt x="2480" y="144"/>
                  <a:pt x="2432" y="48"/>
                  <a:pt x="2448" y="56"/>
                </a:cubicBezTo>
                <a:cubicBezTo>
                  <a:pt x="2464" y="64"/>
                  <a:pt x="2472" y="200"/>
                  <a:pt x="2544" y="248"/>
                </a:cubicBezTo>
                <a:cubicBezTo>
                  <a:pt x="2616" y="296"/>
                  <a:pt x="2792" y="352"/>
                  <a:pt x="2880" y="344"/>
                </a:cubicBezTo>
                <a:cubicBezTo>
                  <a:pt x="2968" y="336"/>
                  <a:pt x="3040" y="256"/>
                  <a:pt x="3072" y="200"/>
                </a:cubicBezTo>
                <a:cubicBezTo>
                  <a:pt x="3104" y="144"/>
                  <a:pt x="3064" y="16"/>
                  <a:pt x="3072" y="8"/>
                </a:cubicBezTo>
                <a:cubicBezTo>
                  <a:pt x="3080" y="0"/>
                  <a:pt x="3080" y="96"/>
                  <a:pt x="3120" y="152"/>
                </a:cubicBezTo>
                <a:cubicBezTo>
                  <a:pt x="3160" y="208"/>
                  <a:pt x="3232" y="328"/>
                  <a:pt x="3312" y="344"/>
                </a:cubicBezTo>
                <a:cubicBezTo>
                  <a:pt x="3392" y="360"/>
                  <a:pt x="3496" y="272"/>
                  <a:pt x="3600" y="2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5715000"/>
            <a:ext cx="5715000" cy="838080"/>
          </a:xfrm>
          <a:custGeom>
            <a:avLst/>
            <a:gdLst/>
            <a:ahLst/>
            <a:rect l="l" t="t" r="r" b="b"/>
            <a:pathLst>
              <a:path w="3600" h="528">
                <a:moveTo>
                  <a:pt x="0" y="336"/>
                </a:moveTo>
                <a:lnTo>
                  <a:pt x="192" y="240"/>
                </a:lnTo>
                <a:lnTo>
                  <a:pt x="240" y="96"/>
                </a:lnTo>
                <a:lnTo>
                  <a:pt x="240" y="48"/>
                </a:lnTo>
                <a:lnTo>
                  <a:pt x="336" y="240"/>
                </a:lnTo>
                <a:lnTo>
                  <a:pt x="480" y="336"/>
                </a:lnTo>
                <a:lnTo>
                  <a:pt x="624" y="288"/>
                </a:lnTo>
                <a:lnTo>
                  <a:pt x="720" y="192"/>
                </a:lnTo>
                <a:lnTo>
                  <a:pt x="768" y="48"/>
                </a:lnTo>
                <a:lnTo>
                  <a:pt x="816" y="192"/>
                </a:lnTo>
                <a:lnTo>
                  <a:pt x="912" y="288"/>
                </a:lnTo>
                <a:lnTo>
                  <a:pt x="1008" y="336"/>
                </a:lnTo>
                <a:lnTo>
                  <a:pt x="1152" y="288"/>
                </a:lnTo>
                <a:lnTo>
                  <a:pt x="1248" y="144"/>
                </a:lnTo>
                <a:lnTo>
                  <a:pt x="1344" y="240"/>
                </a:lnTo>
                <a:lnTo>
                  <a:pt x="1536" y="288"/>
                </a:lnTo>
                <a:lnTo>
                  <a:pt x="1680" y="288"/>
                </a:lnTo>
                <a:lnTo>
                  <a:pt x="1824" y="96"/>
                </a:lnTo>
                <a:lnTo>
                  <a:pt x="1824" y="48"/>
                </a:lnTo>
                <a:lnTo>
                  <a:pt x="1872" y="144"/>
                </a:lnTo>
                <a:lnTo>
                  <a:pt x="2112" y="288"/>
                </a:lnTo>
                <a:lnTo>
                  <a:pt x="2256" y="288"/>
                </a:lnTo>
                <a:lnTo>
                  <a:pt x="2352" y="192"/>
                </a:lnTo>
                <a:lnTo>
                  <a:pt x="2400" y="144"/>
                </a:lnTo>
                <a:lnTo>
                  <a:pt x="2448" y="96"/>
                </a:lnTo>
                <a:lnTo>
                  <a:pt x="2448" y="0"/>
                </a:lnTo>
                <a:lnTo>
                  <a:pt x="2544" y="144"/>
                </a:lnTo>
                <a:lnTo>
                  <a:pt x="2784" y="240"/>
                </a:lnTo>
                <a:lnTo>
                  <a:pt x="2928" y="240"/>
                </a:lnTo>
                <a:lnTo>
                  <a:pt x="3024" y="144"/>
                </a:lnTo>
                <a:lnTo>
                  <a:pt x="3072" y="96"/>
                </a:lnTo>
                <a:lnTo>
                  <a:pt x="3072" y="0"/>
                </a:lnTo>
                <a:lnTo>
                  <a:pt x="3168" y="96"/>
                </a:lnTo>
                <a:lnTo>
                  <a:pt x="3264" y="192"/>
                </a:lnTo>
                <a:lnTo>
                  <a:pt x="3312" y="240"/>
                </a:lnTo>
                <a:lnTo>
                  <a:pt x="3408" y="240"/>
                </a:lnTo>
                <a:lnTo>
                  <a:pt x="3552" y="144"/>
                </a:lnTo>
                <a:lnTo>
                  <a:pt x="3600" y="144"/>
                </a:lnTo>
                <a:lnTo>
                  <a:pt x="3600" y="528"/>
                </a:lnTo>
                <a:lnTo>
                  <a:pt x="0" y="528"/>
                </a:lnTo>
                <a:lnTo>
                  <a:pt x="0" y="3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752480" y="5943240"/>
            <a:ext cx="152640" cy="304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53360" y="749160"/>
            <a:ext cx="2835720" cy="4389120"/>
            <a:chOff x="153360" y="749160"/>
            <a:chExt cx="2835720" cy="4389120"/>
          </a:xfrm>
        </p:grpSpPr>
        <p:sp>
          <p:nvSpPr>
            <p:cNvPr id="390" name=""/>
            <p:cNvSpPr/>
            <p:nvPr/>
          </p:nvSpPr>
          <p:spPr>
            <a:xfrm>
              <a:off x="153360" y="4495680"/>
              <a:ext cx="107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mg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3720" y="3263760"/>
              <a:ext cx="25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mg(h + Δh)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3720" y="1968480"/>
              <a:ext cx="283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mg(h + 2Δh)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3720" y="749160"/>
              <a:ext cx="283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mg(h + 3Δh)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447920" y="1359000"/>
            <a:ext cx="7044840" cy="3822480"/>
            <a:chOff x="1447920" y="1359000"/>
            <a:chExt cx="7044840" cy="3822480"/>
          </a:xfrm>
        </p:grpSpPr>
        <p:sp>
          <p:nvSpPr>
            <p:cNvPr id="395" name=""/>
            <p:cNvSpPr/>
            <p:nvPr/>
          </p:nvSpPr>
          <p:spPr>
            <a:xfrm>
              <a:off x="1447920" y="389880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47920" y="262908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47920" y="135900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27680" y="41148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Δ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43800" y="3886200"/>
              <a:ext cx="0" cy="129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7238880" y="6216480"/>
            <a:ext cx="1567440" cy="642600"/>
            <a:chOff x="7238880" y="6216480"/>
            <a:chExt cx="1567440" cy="642600"/>
          </a:xfrm>
        </p:grpSpPr>
        <p:sp>
          <p:nvSpPr>
            <p:cNvPr id="401" name=""/>
            <p:cNvSpPr/>
            <p:nvPr/>
          </p:nvSpPr>
          <p:spPr>
            <a:xfrm>
              <a:off x="7238880" y="6553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49800" y="6216480"/>
              <a:ext cx="95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h=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447920" y="5168880"/>
            <a:ext cx="6741720" cy="1384200"/>
            <a:chOff x="1447920" y="5168880"/>
            <a:chExt cx="6741720" cy="1384200"/>
          </a:xfrm>
        </p:grpSpPr>
        <p:sp>
          <p:nvSpPr>
            <p:cNvPr id="404" name=""/>
            <p:cNvSpPr/>
            <p:nvPr/>
          </p:nvSpPr>
          <p:spPr>
            <a:xfrm>
              <a:off x="1447920" y="516888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543800" y="51814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7880" y="53881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447920" y="1628640"/>
            <a:ext cx="0" cy="454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-645120" y="32281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ce (mg) /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71640" y="260280"/>
            <a:ext cx="7315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ork done moving an object by Δ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near the earth’s surface, g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st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28840" y="606276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eight /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743200" y="2666880"/>
            <a:ext cx="2895480" cy="3505320"/>
            <a:chOff x="2743200" y="2666880"/>
            <a:chExt cx="2895480" cy="3505320"/>
          </a:xfrm>
        </p:grpSpPr>
        <p:sp>
          <p:nvSpPr>
            <p:cNvPr id="412" name=""/>
            <p:cNvSpPr/>
            <p:nvPr/>
          </p:nvSpPr>
          <p:spPr>
            <a:xfrm>
              <a:off x="2743200" y="2666880"/>
              <a:ext cx="2895480" cy="3505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43200" y="594360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11320" y="5257800"/>
              <a:ext cx="740160" cy="642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Δ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334120" y="3124080"/>
            <a:ext cx="3599640" cy="1252440"/>
            <a:chOff x="5334120" y="3124080"/>
            <a:chExt cx="3599640" cy="1252440"/>
          </a:xfrm>
        </p:grpSpPr>
        <p:sp>
          <p:nvSpPr>
            <p:cNvPr id="416" name=""/>
            <p:cNvSpPr/>
            <p:nvPr/>
          </p:nvSpPr>
          <p:spPr>
            <a:xfrm>
              <a:off x="5334120" y="34290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5945040" y="3124080"/>
              <a:ext cx="2988720" cy="1252440"/>
              <a:chOff x="5945040" y="3124080"/>
              <a:chExt cx="2988720" cy="1252440"/>
            </a:xfrm>
          </p:grpSpPr>
          <p:sp>
            <p:nvSpPr>
              <p:cNvPr id="418" name=""/>
              <p:cNvSpPr/>
              <p:nvPr/>
            </p:nvSpPr>
            <p:spPr>
              <a:xfrm>
                <a:off x="5945040" y="3124080"/>
                <a:ext cx="298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</a:rPr>
                  <a:t>Area = mg Δ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249240" y="3733920"/>
                <a:ext cx="2684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</a:rPr>
                  <a:t>= work don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2603160" y="2666880"/>
            <a:ext cx="3326400" cy="4147200"/>
            <a:chOff x="2603160" y="2666880"/>
            <a:chExt cx="3326400" cy="4147200"/>
          </a:xfrm>
        </p:grpSpPr>
        <p:sp>
          <p:nvSpPr>
            <p:cNvPr id="421" name=""/>
            <p:cNvSpPr/>
            <p:nvPr/>
          </p:nvSpPr>
          <p:spPr>
            <a:xfrm>
              <a:off x="2743200" y="2666880"/>
              <a:ext cx="0" cy="3505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38680" y="2666880"/>
              <a:ext cx="0" cy="3505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03160" y="6095880"/>
              <a:ext cx="5832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46360" y="6095880"/>
              <a:ext cx="5832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1447920" y="6172200"/>
            <a:ext cx="6248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47920" y="2666880"/>
            <a:ext cx="6400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923760" y="1285560"/>
            <a:ext cx="2305080" cy="2213280"/>
            <a:chOff x="923760" y="1285560"/>
            <a:chExt cx="2305080" cy="2213280"/>
          </a:xfrm>
        </p:grpSpPr>
        <p:sp>
          <p:nvSpPr>
            <p:cNvPr id="62" name=""/>
            <p:cNvSpPr/>
            <p:nvPr/>
          </p:nvSpPr>
          <p:spPr>
            <a:xfrm flipH="1">
              <a:off x="2209320" y="1676520"/>
              <a:ext cx="762120" cy="6094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23760" y="2014560"/>
              <a:ext cx="894240" cy="3906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2257560" y="2543040"/>
              <a:ext cx="971280" cy="950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279800" y="2602800"/>
              <a:ext cx="639000" cy="738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87320" y="1285560"/>
              <a:ext cx="282240" cy="934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2100240" y="2596320"/>
              <a:ext cx="370440" cy="902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14880" y="1285560"/>
            <a:ext cx="2305080" cy="2213280"/>
            <a:chOff x="5114880" y="1285560"/>
            <a:chExt cx="2305080" cy="2213280"/>
          </a:xfrm>
        </p:grpSpPr>
        <p:sp>
          <p:nvSpPr>
            <p:cNvPr id="69" name=""/>
            <p:cNvSpPr/>
            <p:nvPr/>
          </p:nvSpPr>
          <p:spPr>
            <a:xfrm flipH="1">
              <a:off x="6400440" y="1676520"/>
              <a:ext cx="762120" cy="6094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14880" y="2014560"/>
              <a:ext cx="894240" cy="3906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6448680" y="2543040"/>
              <a:ext cx="971280" cy="950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470920" y="2602800"/>
              <a:ext cx="639000" cy="738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78440" y="1285560"/>
              <a:ext cx="282240" cy="934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6291360" y="2596320"/>
              <a:ext cx="370440" cy="902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019920" y="22096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50920" y="3787920"/>
            <a:ext cx="3809880" cy="1624680"/>
            <a:chOff x="250920" y="3787920"/>
            <a:chExt cx="3809880" cy="1624680"/>
          </a:xfrm>
        </p:grpSpPr>
        <p:sp>
          <p:nvSpPr>
            <p:cNvPr id="77" name=""/>
            <p:cNvSpPr/>
            <p:nvPr/>
          </p:nvSpPr>
          <p:spPr>
            <a:xfrm flipH="1">
              <a:off x="1317240" y="4625640"/>
              <a:ext cx="16002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7600" y="4244760"/>
              <a:ext cx="1676520" cy="228240"/>
            </a:xfrm>
            <a:custGeom>
              <a:avLst/>
              <a:gdLst/>
              <a:ahLst/>
              <a:rect l="l" t="t" r="r" b="b"/>
              <a:pathLst>
                <a:path w="1056" h="144">
                  <a:moveTo>
                    <a:pt x="1056" y="144"/>
                  </a:moveTo>
                  <a:cubicBezTo>
                    <a:pt x="880" y="72"/>
                    <a:pt x="704" y="0"/>
                    <a:pt x="528" y="0"/>
                  </a:cubicBezTo>
                  <a:cubicBezTo>
                    <a:pt x="352" y="0"/>
                    <a:pt x="88" y="112"/>
                    <a:pt x="0" y="144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317600" y="4778280"/>
              <a:ext cx="1676520" cy="228240"/>
            </a:xfrm>
            <a:custGeom>
              <a:avLst/>
              <a:gdLst/>
              <a:ahLst/>
              <a:rect l="l" t="t" r="r" b="b"/>
              <a:pathLst>
                <a:path w="1056" h="144">
                  <a:moveTo>
                    <a:pt x="1056" y="144"/>
                  </a:moveTo>
                  <a:cubicBezTo>
                    <a:pt x="880" y="72"/>
                    <a:pt x="704" y="0"/>
                    <a:pt x="528" y="0"/>
                  </a:cubicBezTo>
                  <a:cubicBezTo>
                    <a:pt x="352" y="0"/>
                    <a:pt x="88" y="112"/>
                    <a:pt x="0" y="144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41640" y="3787920"/>
              <a:ext cx="1993680" cy="711000"/>
            </a:xfrm>
            <a:custGeom>
              <a:avLst/>
              <a:gdLst/>
              <a:ahLst/>
              <a:rect l="l" t="t" r="r" b="b"/>
              <a:pathLst>
                <a:path w="1256" h="448">
                  <a:moveTo>
                    <a:pt x="1200" y="384"/>
                  </a:moveTo>
                  <a:cubicBezTo>
                    <a:pt x="1228" y="416"/>
                    <a:pt x="1256" y="448"/>
                    <a:pt x="1152" y="384"/>
                  </a:cubicBezTo>
                  <a:cubicBezTo>
                    <a:pt x="1048" y="320"/>
                    <a:pt x="768" y="0"/>
                    <a:pt x="576" y="0"/>
                  </a:cubicBezTo>
                  <a:cubicBezTo>
                    <a:pt x="384" y="0"/>
                    <a:pt x="88" y="320"/>
                    <a:pt x="0" y="384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241640" y="4701240"/>
              <a:ext cx="1993680" cy="711000"/>
            </a:xfrm>
            <a:custGeom>
              <a:avLst/>
              <a:gdLst/>
              <a:ahLst/>
              <a:rect l="l" t="t" r="r" b="b"/>
              <a:pathLst>
                <a:path w="1256" h="448">
                  <a:moveTo>
                    <a:pt x="1200" y="384"/>
                  </a:moveTo>
                  <a:cubicBezTo>
                    <a:pt x="1228" y="416"/>
                    <a:pt x="1256" y="448"/>
                    <a:pt x="1152" y="384"/>
                  </a:cubicBezTo>
                  <a:cubicBezTo>
                    <a:pt x="1048" y="320"/>
                    <a:pt x="768" y="0"/>
                    <a:pt x="576" y="0"/>
                  </a:cubicBezTo>
                  <a:cubicBezTo>
                    <a:pt x="384" y="0"/>
                    <a:pt x="88" y="320"/>
                    <a:pt x="0" y="384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9520" y="4092480"/>
              <a:ext cx="457200" cy="380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0920" y="4625640"/>
              <a:ext cx="6094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31800" y="4777920"/>
              <a:ext cx="304920" cy="380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222720" y="4015800"/>
              <a:ext cx="457200" cy="380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75000" y="4625640"/>
              <a:ext cx="6858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99040" y="4778280"/>
              <a:ext cx="533160" cy="380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860400" y="4397400"/>
            <a:ext cx="2514600" cy="457200"/>
            <a:chOff x="860400" y="4397400"/>
            <a:chExt cx="2514600" cy="457200"/>
          </a:xfrm>
        </p:grpSpPr>
        <p:sp>
          <p:nvSpPr>
            <p:cNvPr id="89" name=""/>
            <p:cNvSpPr/>
            <p:nvPr/>
          </p:nvSpPr>
          <p:spPr>
            <a:xfrm>
              <a:off x="860400" y="4397400"/>
              <a:ext cx="4572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17800" y="43974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5120" y="152280"/>
            <a:ext cx="51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ield Strength Lin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22096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732720" y="4187880"/>
            <a:ext cx="1371600" cy="1676520"/>
            <a:chOff x="6732720" y="4187880"/>
            <a:chExt cx="1371600" cy="1676520"/>
          </a:xfrm>
        </p:grpSpPr>
        <p:sp>
          <p:nvSpPr>
            <p:cNvPr id="94" name=""/>
            <p:cNvSpPr/>
            <p:nvPr/>
          </p:nvSpPr>
          <p:spPr>
            <a:xfrm>
              <a:off x="6732720" y="4187880"/>
              <a:ext cx="152280" cy="1676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52040" y="4187880"/>
              <a:ext cx="152280" cy="1676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885000" y="3882960"/>
            <a:ext cx="1143000" cy="2210040"/>
            <a:chOff x="6885000" y="3882960"/>
            <a:chExt cx="1143000" cy="2210040"/>
          </a:xfrm>
        </p:grpSpPr>
        <p:sp>
          <p:nvSpPr>
            <p:cNvPr id="97" name=""/>
            <p:cNvSpPr/>
            <p:nvPr/>
          </p:nvSpPr>
          <p:spPr>
            <a:xfrm flipH="1">
              <a:off x="6885000" y="4264200"/>
              <a:ext cx="10670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885000" y="4606920"/>
              <a:ext cx="10670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885000" y="4950000"/>
              <a:ext cx="10670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885000" y="5292720"/>
              <a:ext cx="10670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885000" y="5635800"/>
              <a:ext cx="10670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85000" y="3882960"/>
              <a:ext cx="1143000" cy="304920"/>
            </a:xfrm>
            <a:custGeom>
              <a:avLst/>
              <a:gdLst/>
              <a:ahLst/>
              <a:rect l="l" t="t" r="r" b="b"/>
              <a:pathLst>
                <a:path w="720" h="192">
                  <a:moveTo>
                    <a:pt x="720" y="192"/>
                  </a:moveTo>
                  <a:cubicBezTo>
                    <a:pt x="588" y="96"/>
                    <a:pt x="456" y="0"/>
                    <a:pt x="336" y="0"/>
                  </a:cubicBezTo>
                  <a:cubicBezTo>
                    <a:pt x="216" y="0"/>
                    <a:pt x="40" y="160"/>
                    <a:pt x="0" y="192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5000" y="586440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72" y="0"/>
                  </a:moveTo>
                  <a:cubicBezTo>
                    <a:pt x="560" y="72"/>
                    <a:pt x="448" y="144"/>
                    <a:pt x="336" y="144"/>
                  </a:cubicBezTo>
                  <a:cubicBezTo>
                    <a:pt x="224" y="144"/>
                    <a:pt x="112" y="72"/>
                    <a:pt x="0" y="0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572000" y="4076640"/>
            <a:ext cx="1152360" cy="1870200"/>
            <a:chOff x="4572000" y="4076640"/>
            <a:chExt cx="1152360" cy="1870200"/>
          </a:xfrm>
        </p:grpSpPr>
        <p:sp>
          <p:nvSpPr>
            <p:cNvPr id="105" name=""/>
            <p:cNvSpPr/>
            <p:nvPr/>
          </p:nvSpPr>
          <p:spPr>
            <a:xfrm flipH="1" flipV="1">
              <a:off x="4579920" y="4638240"/>
              <a:ext cx="1000080" cy="1573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579560" y="4981680"/>
              <a:ext cx="10666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579920" y="5156280"/>
              <a:ext cx="928800" cy="1681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5300640"/>
              <a:ext cx="1081080" cy="358920"/>
            </a:xfrm>
            <a:custGeom>
              <a:avLst/>
              <a:gdLst/>
              <a:ahLst/>
              <a:rect l="l" t="t" r="r" b="b"/>
              <a:pathLst>
                <a:path w="635" h="226">
                  <a:moveTo>
                    <a:pt x="635" y="0"/>
                  </a:moveTo>
                  <a:cubicBezTo>
                    <a:pt x="551" y="71"/>
                    <a:pt x="468" y="143"/>
                    <a:pt x="362" y="181"/>
                  </a:cubicBezTo>
                  <a:cubicBezTo>
                    <a:pt x="256" y="219"/>
                    <a:pt x="128" y="222"/>
                    <a:pt x="0" y="226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572000" y="4363200"/>
              <a:ext cx="1081080" cy="358920"/>
            </a:xfrm>
            <a:custGeom>
              <a:avLst/>
              <a:gdLst/>
              <a:ahLst/>
              <a:rect l="l" t="t" r="r" b="b"/>
              <a:pathLst>
                <a:path w="635" h="226">
                  <a:moveTo>
                    <a:pt x="635" y="0"/>
                  </a:moveTo>
                  <a:cubicBezTo>
                    <a:pt x="551" y="71"/>
                    <a:pt x="468" y="143"/>
                    <a:pt x="362" y="181"/>
                  </a:cubicBezTo>
                  <a:cubicBezTo>
                    <a:pt x="256" y="219"/>
                    <a:pt x="128" y="222"/>
                    <a:pt x="0" y="226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4076640"/>
              <a:ext cx="1152360" cy="574920"/>
            </a:xfrm>
            <a:custGeom>
              <a:avLst/>
              <a:gdLst/>
              <a:ahLst/>
              <a:rect l="l" t="t" r="r" b="b"/>
              <a:pathLst>
                <a:path w="726" h="362">
                  <a:moveTo>
                    <a:pt x="726" y="362"/>
                  </a:moveTo>
                  <a:cubicBezTo>
                    <a:pt x="627" y="226"/>
                    <a:pt x="529" y="90"/>
                    <a:pt x="408" y="45"/>
                  </a:cubicBezTo>
                  <a:cubicBezTo>
                    <a:pt x="287" y="0"/>
                    <a:pt x="143" y="45"/>
                    <a:pt x="0" y="90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572000" y="5372280"/>
              <a:ext cx="1152360" cy="574560"/>
            </a:xfrm>
            <a:custGeom>
              <a:avLst/>
              <a:gdLst/>
              <a:ahLst/>
              <a:rect l="l" t="t" r="r" b="b"/>
              <a:pathLst>
                <a:path w="726" h="362">
                  <a:moveTo>
                    <a:pt x="726" y="362"/>
                  </a:moveTo>
                  <a:cubicBezTo>
                    <a:pt x="627" y="226"/>
                    <a:pt x="529" y="90"/>
                    <a:pt x="408" y="45"/>
                  </a:cubicBezTo>
                  <a:cubicBezTo>
                    <a:pt x="287" y="0"/>
                    <a:pt x="143" y="45"/>
                    <a:pt x="0" y="90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4219560"/>
            <a:ext cx="1538280" cy="1676520"/>
            <a:chOff x="4427640" y="4219560"/>
            <a:chExt cx="1538280" cy="1676520"/>
          </a:xfrm>
        </p:grpSpPr>
        <p:sp>
          <p:nvSpPr>
            <p:cNvPr id="113" name=""/>
            <p:cNvSpPr/>
            <p:nvPr/>
          </p:nvSpPr>
          <p:spPr>
            <a:xfrm>
              <a:off x="4427640" y="4219560"/>
              <a:ext cx="152280" cy="1676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08720" y="479592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4080" y="692280"/>
            <a:ext cx="86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ine to indicate direction of force felt by a +ve cha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229080" y="3645000"/>
            <a:ext cx="2459160" cy="3214800"/>
            <a:chOff x="6229080" y="3645000"/>
            <a:chExt cx="2459160" cy="3214800"/>
          </a:xfrm>
        </p:grpSpPr>
        <p:sp>
          <p:nvSpPr>
            <p:cNvPr id="117" name=""/>
            <p:cNvSpPr/>
            <p:nvPr/>
          </p:nvSpPr>
          <p:spPr>
            <a:xfrm>
              <a:off x="6342120" y="3645000"/>
              <a:ext cx="2232000" cy="2736720"/>
            </a:xfrm>
            <a:prstGeom prst="rect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29080" y="6278400"/>
              <a:ext cx="245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cc33"/>
                  </a:solidFill>
                  <a:latin typeface="Arial"/>
                </a:rPr>
                <a:t>Uniform fiel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79280" y="1190520"/>
            <a:ext cx="7632720" cy="5628240"/>
            <a:chOff x="179280" y="1190520"/>
            <a:chExt cx="7632720" cy="5628240"/>
          </a:xfrm>
        </p:grpSpPr>
        <p:sp>
          <p:nvSpPr>
            <p:cNvPr id="120" name=""/>
            <p:cNvSpPr/>
            <p:nvPr/>
          </p:nvSpPr>
          <p:spPr>
            <a:xfrm>
              <a:off x="179280" y="1190520"/>
              <a:ext cx="7632720" cy="4975200"/>
            </a:xfrm>
            <a:custGeom>
              <a:avLst/>
              <a:gdLst/>
              <a:ahLst/>
              <a:rect l="l" t="t" r="r" b="b"/>
              <a:pathLst>
                <a:path w="4808" h="3134">
                  <a:moveTo>
                    <a:pt x="0" y="3134"/>
                  </a:moveTo>
                  <a:lnTo>
                    <a:pt x="3765" y="3134"/>
                  </a:lnTo>
                  <a:lnTo>
                    <a:pt x="3765" y="1438"/>
                  </a:lnTo>
                  <a:lnTo>
                    <a:pt x="4808" y="1438"/>
                  </a:lnTo>
                  <a:lnTo>
                    <a:pt x="4808" y="3"/>
                  </a:lnTo>
                  <a:lnTo>
                    <a:pt x="15" y="0"/>
                  </a:lnTo>
                  <a:lnTo>
                    <a:pt x="0" y="3134"/>
                  </a:lnTo>
                  <a:close/>
                </a:path>
              </a:pathLst>
            </a:custGeom>
            <a:noFill/>
            <a:ln w="381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76720" y="6237360"/>
              <a:ext cx="347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cc00ff"/>
                  </a:solidFill>
                  <a:latin typeface="Arial"/>
                </a:rPr>
                <a:t>Non-uniform field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80520" y="533520"/>
            <a:ext cx="46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Gravitational poten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1523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..“The work done to move unit mass from infinity to that point”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34600" y="3778200"/>
            <a:ext cx="2606760" cy="1633320"/>
            <a:chOff x="534600" y="3778200"/>
            <a:chExt cx="2606760" cy="1633320"/>
          </a:xfrm>
        </p:grpSpPr>
        <p:sp>
          <p:nvSpPr>
            <p:cNvPr id="430" name=""/>
            <p:cNvSpPr/>
            <p:nvPr/>
          </p:nvSpPr>
          <p:spPr>
            <a:xfrm>
              <a:off x="534600" y="3778200"/>
              <a:ext cx="253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Symbol = 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2600" y="4768920"/>
              <a:ext cx="258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Unit = J kg</a:t>
              </a:r>
              <a:r>
                <a:rPr b="0" lang="en-GB" sz="36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726800" y="3456000"/>
            <a:ext cx="3538080" cy="1458000"/>
            <a:chOff x="4726800" y="3456000"/>
            <a:chExt cx="3538080" cy="1458000"/>
          </a:xfrm>
        </p:grpSpPr>
        <p:sp>
          <p:nvSpPr>
            <p:cNvPr id="433" name=""/>
            <p:cNvSpPr/>
            <p:nvPr/>
          </p:nvSpPr>
          <p:spPr>
            <a:xfrm>
              <a:off x="4726800" y="3456000"/>
              <a:ext cx="35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V = mgh = g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13080" y="4149720"/>
              <a:ext cx="64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96000" y="42210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4275360" y="5257800"/>
            <a:ext cx="395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n’t forge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0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457200" y="6858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ravitational potential is the total work, against the gravitational force, for 1kg  to go from a point where g = 0 to the point in question where g = x N kg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20280" y="3525840"/>
            <a:ext cx="419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 = 0 N kg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at r = </a:t>
            </a:r>
            <a:r>
              <a:rPr b="0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40440" y="457200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 = 9.8 N kg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at r = 6.4 x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229680" y="304920"/>
            <a:ext cx="32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conventio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973680" y="4518000"/>
            <a:ext cx="892080" cy="8920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4824360" y="3132000"/>
            <a:ext cx="2468520" cy="1857600"/>
          </a:xfrm>
          <a:custGeom>
            <a:avLst/>
            <a:gdLst/>
            <a:ahLst/>
            <a:rect l="l" t="t" r="r" b="b"/>
            <a:pathLst>
              <a:path w="2392" h="1800">
                <a:moveTo>
                  <a:pt x="40" y="1776"/>
                </a:moveTo>
                <a:cubicBezTo>
                  <a:pt x="20" y="1788"/>
                  <a:pt x="0" y="1800"/>
                  <a:pt x="40" y="1680"/>
                </a:cubicBezTo>
                <a:cubicBezTo>
                  <a:pt x="80" y="1560"/>
                  <a:pt x="168" y="1240"/>
                  <a:pt x="280" y="1056"/>
                </a:cubicBezTo>
                <a:cubicBezTo>
                  <a:pt x="392" y="872"/>
                  <a:pt x="496" y="720"/>
                  <a:pt x="712" y="576"/>
                </a:cubicBezTo>
                <a:cubicBezTo>
                  <a:pt x="928" y="432"/>
                  <a:pt x="1296" y="288"/>
                  <a:pt x="1576" y="192"/>
                </a:cubicBezTo>
                <a:cubicBezTo>
                  <a:pt x="1856" y="96"/>
                  <a:pt x="2248" y="0"/>
                  <a:pt x="23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545480" y="3132000"/>
            <a:ext cx="2468520" cy="1857600"/>
          </a:xfrm>
          <a:custGeom>
            <a:avLst/>
            <a:gdLst/>
            <a:ahLst/>
            <a:rect l="l" t="t" r="r" b="b"/>
            <a:pathLst>
              <a:path w="2392" h="1800">
                <a:moveTo>
                  <a:pt x="40" y="1776"/>
                </a:moveTo>
                <a:cubicBezTo>
                  <a:pt x="20" y="1788"/>
                  <a:pt x="0" y="1800"/>
                  <a:pt x="40" y="1680"/>
                </a:cubicBezTo>
                <a:cubicBezTo>
                  <a:pt x="80" y="1560"/>
                  <a:pt x="168" y="1240"/>
                  <a:pt x="280" y="1056"/>
                </a:cubicBezTo>
                <a:cubicBezTo>
                  <a:pt x="392" y="872"/>
                  <a:pt x="496" y="720"/>
                  <a:pt x="712" y="576"/>
                </a:cubicBezTo>
                <a:cubicBezTo>
                  <a:pt x="928" y="432"/>
                  <a:pt x="1296" y="288"/>
                  <a:pt x="1576" y="192"/>
                </a:cubicBezTo>
                <a:cubicBezTo>
                  <a:pt x="1856" y="96"/>
                  <a:pt x="2248" y="0"/>
                  <a:pt x="23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389320" y="3279600"/>
            <a:ext cx="4060800" cy="1140120"/>
            <a:chOff x="2389320" y="3279600"/>
            <a:chExt cx="4060800" cy="1140120"/>
          </a:xfrm>
        </p:grpSpPr>
        <p:sp>
          <p:nvSpPr>
            <p:cNvPr id="445" name=""/>
            <p:cNvSpPr/>
            <p:nvPr/>
          </p:nvSpPr>
          <p:spPr>
            <a:xfrm>
              <a:off x="3775680" y="4320720"/>
              <a:ext cx="1287720" cy="9900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27000" y="3973320"/>
              <a:ext cx="1634040" cy="9900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81320" y="3626640"/>
              <a:ext cx="2476080" cy="9900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89320" y="3279600"/>
              <a:ext cx="4060800" cy="9900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V="1">
            <a:off x="4419720" y="3132000"/>
            <a:ext cx="0" cy="13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47920" y="3081240"/>
            <a:ext cx="5943600" cy="0"/>
          </a:xfrm>
          <a:prstGeom prst="line">
            <a:avLst/>
          </a:prstGeom>
          <a:ln w="3816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209680" y="4910040"/>
            <a:ext cx="4419720" cy="0"/>
          </a:xfrm>
          <a:prstGeom prst="line">
            <a:avLst/>
          </a:prstGeom>
          <a:ln w="3816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4440" y="4605480"/>
            <a:ext cx="19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GPE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54800" y="25099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GPE =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172200" y="1219320"/>
            <a:ext cx="2709000" cy="4028760"/>
            <a:chOff x="6172200" y="1219320"/>
            <a:chExt cx="2709000" cy="4028760"/>
          </a:xfrm>
        </p:grpSpPr>
        <p:sp>
          <p:nvSpPr>
            <p:cNvPr id="455" name=""/>
            <p:cNvSpPr/>
            <p:nvPr/>
          </p:nvSpPr>
          <p:spPr>
            <a:xfrm>
              <a:off x="6708240" y="4605480"/>
              <a:ext cx="217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GPE = - 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61680" y="2509920"/>
              <a:ext cx="191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GPE = 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72200" y="1219320"/>
              <a:ext cx="2666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Space calculati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28600" y="12193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Earth only calc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143000" y="1522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ork done moving an object from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r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(Δ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73240" y="3807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940360" y="3789360"/>
            <a:ext cx="2000160" cy="1800720"/>
            <a:chOff x="5940360" y="3789360"/>
            <a:chExt cx="2000160" cy="1800720"/>
          </a:xfrm>
        </p:grpSpPr>
        <p:sp>
          <p:nvSpPr>
            <p:cNvPr id="462" name=""/>
            <p:cNvSpPr/>
            <p:nvPr/>
          </p:nvSpPr>
          <p:spPr>
            <a:xfrm>
              <a:off x="6772320" y="37893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5940360" y="4146480"/>
              <a:ext cx="2000160" cy="1443600"/>
              <a:chOff x="5940360" y="4146480"/>
              <a:chExt cx="2000160" cy="1443600"/>
            </a:xfrm>
          </p:grpSpPr>
          <p:sp>
            <p:nvSpPr>
              <p:cNvPr id="464" name=""/>
              <p:cNvSpPr/>
              <p:nvPr/>
            </p:nvSpPr>
            <p:spPr>
              <a:xfrm>
                <a:off x="6778440" y="4146480"/>
                <a:ext cx="414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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940360" y="4299120"/>
                <a:ext cx="200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</a:rPr>
                  <a:t>= m  g dr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779520" y="5008680"/>
                <a:ext cx="31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7" name=""/>
          <p:cNvSpPr/>
          <p:nvPr/>
        </p:nvSpPr>
        <p:spPr>
          <a:xfrm>
            <a:off x="4861440" y="3213000"/>
            <a:ext cx="37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ea = work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13080" y="2781360"/>
            <a:ext cx="648000" cy="720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702160" y="1267560"/>
            <a:ext cx="5476680" cy="2012040"/>
            <a:chOff x="2702160" y="1267560"/>
            <a:chExt cx="5476680" cy="2012040"/>
          </a:xfrm>
        </p:grpSpPr>
        <p:sp>
          <p:nvSpPr>
            <p:cNvPr id="470" name=""/>
            <p:cNvSpPr/>
            <p:nvPr/>
          </p:nvSpPr>
          <p:spPr>
            <a:xfrm flipV="1">
              <a:off x="2760840" y="2059200"/>
              <a:ext cx="4876560" cy="1219320"/>
            </a:xfrm>
            <a:custGeom>
              <a:avLst/>
              <a:gdLst/>
              <a:ahLst/>
              <a:rect l="l" t="t" r="r" b="b"/>
              <a:pathLst>
                <a:path w="3072" h="768">
                  <a:moveTo>
                    <a:pt x="0" y="0"/>
                  </a:moveTo>
                  <a:lnTo>
                    <a:pt x="48" y="0"/>
                  </a:lnTo>
                  <a:lnTo>
                    <a:pt x="432" y="192"/>
                  </a:lnTo>
                  <a:lnTo>
                    <a:pt x="864" y="336"/>
                  </a:lnTo>
                  <a:lnTo>
                    <a:pt x="1392" y="480"/>
                  </a:lnTo>
                  <a:lnTo>
                    <a:pt x="1728" y="576"/>
                  </a:lnTo>
                  <a:lnTo>
                    <a:pt x="2160" y="672"/>
                  </a:lnTo>
                  <a:lnTo>
                    <a:pt x="2304" y="672"/>
                  </a:lnTo>
                  <a:lnTo>
                    <a:pt x="2400" y="672"/>
                  </a:lnTo>
                  <a:lnTo>
                    <a:pt x="2736" y="720"/>
                  </a:lnTo>
                  <a:lnTo>
                    <a:pt x="3072" y="768"/>
                  </a:lnTo>
                  <a:lnTo>
                    <a:pt x="48" y="768"/>
                  </a:lnTo>
                  <a:lnTo>
                    <a:pt x="48" y="0"/>
                  </a:ln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16440" y="1844280"/>
              <a:ext cx="4724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 rot="10800000">
              <a:off x="5059080" y="12672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ff"/>
                  </a:solidFill>
                  <a:latin typeface="Arial"/>
                </a:rPr>
                <a:t>Δ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02160" y="14839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91760" y="148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36800" y="206028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 flipV="1">
            <a:off x="1160640" y="2050560"/>
            <a:ext cx="6781680" cy="4114800"/>
          </a:xfrm>
          <a:custGeom>
            <a:avLst/>
            <a:gdLst/>
            <a:ahLst/>
            <a:rect l="l" t="t" r="r" b="b"/>
            <a:pathLst>
              <a:path w="4272" h="2592">
                <a:moveTo>
                  <a:pt x="0" y="0"/>
                </a:moveTo>
                <a:cubicBezTo>
                  <a:pt x="148" y="596"/>
                  <a:pt x="296" y="1192"/>
                  <a:pt x="720" y="1584"/>
                </a:cubicBezTo>
                <a:cubicBezTo>
                  <a:pt x="1144" y="1976"/>
                  <a:pt x="1952" y="2184"/>
                  <a:pt x="2544" y="2352"/>
                </a:cubicBezTo>
                <a:cubicBezTo>
                  <a:pt x="3136" y="2520"/>
                  <a:pt x="3984" y="2560"/>
                  <a:pt x="4272" y="25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24000" y="1125360"/>
            <a:ext cx="8530200" cy="5256000"/>
            <a:chOff x="324000" y="1125360"/>
            <a:chExt cx="8530200" cy="5256000"/>
          </a:xfrm>
        </p:grpSpPr>
        <p:sp>
          <p:nvSpPr>
            <p:cNvPr id="478" name=""/>
            <p:cNvSpPr/>
            <p:nvPr/>
          </p:nvSpPr>
          <p:spPr>
            <a:xfrm>
              <a:off x="1160640" y="2010960"/>
              <a:ext cx="0" cy="437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6200000">
              <a:off x="-917640" y="3466440"/>
              <a:ext cx="312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Force (mg) / 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87240" y="112536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r /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73080" y="14839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66760" y="206172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591840" y="6216480"/>
            <a:ext cx="80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Arial"/>
              </a:rPr>
              <a:t>N.B. g isn’t constant (non-uniform fie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ravitational potential - work done on unit mass i.e. m = 1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937960" y="1219320"/>
            <a:ext cx="3000240" cy="2647440"/>
            <a:chOff x="2937960" y="1219320"/>
            <a:chExt cx="3000240" cy="2647440"/>
          </a:xfrm>
        </p:grpSpPr>
        <p:sp>
          <p:nvSpPr>
            <p:cNvPr id="486" name=""/>
            <p:cNvSpPr/>
            <p:nvPr/>
          </p:nvSpPr>
          <p:spPr>
            <a:xfrm>
              <a:off x="2937960" y="2057400"/>
              <a:ext cx="1610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V =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91240" y="1752480"/>
              <a:ext cx="884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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85880" y="2004840"/>
              <a:ext cx="155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g d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1320" y="3041640"/>
              <a:ext cx="38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69440" y="1219320"/>
              <a:ext cx="63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3535200" y="3809880"/>
            <a:ext cx="2711520" cy="2135880"/>
            <a:chOff x="3535200" y="3809880"/>
            <a:chExt cx="2711520" cy="2135880"/>
          </a:xfrm>
        </p:grpSpPr>
        <p:sp>
          <p:nvSpPr>
            <p:cNvPr id="492" name=""/>
            <p:cNvSpPr/>
            <p:nvPr/>
          </p:nvSpPr>
          <p:spPr>
            <a:xfrm>
              <a:off x="3535200" y="4343400"/>
              <a:ext cx="191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= 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G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53440" y="487692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5436720" y="4343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54367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42000" y="434340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65480" y="4343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06548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065480" y="434340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72000" y="502920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743440" y="518148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45520" y="3809880"/>
              <a:ext cx="601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6190920" y="4343400"/>
            <a:ext cx="2029320" cy="1236960"/>
            <a:chOff x="6190920" y="4343400"/>
            <a:chExt cx="2029320" cy="1236960"/>
          </a:xfrm>
        </p:grpSpPr>
        <p:sp>
          <p:nvSpPr>
            <p:cNvPr id="504" name=""/>
            <p:cNvSpPr/>
            <p:nvPr/>
          </p:nvSpPr>
          <p:spPr>
            <a:xfrm>
              <a:off x="6190920" y="4343400"/>
              <a:ext cx="202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=   - G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485480" y="487692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36000" y="5029200"/>
              <a:ext cx="933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7086600" y="350496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471600" y="3429000"/>
            <a:ext cx="2960640" cy="2625480"/>
            <a:chOff x="471600" y="3429000"/>
            <a:chExt cx="2960640" cy="2625480"/>
          </a:xfrm>
        </p:grpSpPr>
        <p:sp>
          <p:nvSpPr>
            <p:cNvPr id="509" name=""/>
            <p:cNvSpPr/>
            <p:nvPr/>
          </p:nvSpPr>
          <p:spPr>
            <a:xfrm>
              <a:off x="1177200" y="3429000"/>
              <a:ext cx="63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1600" y="4338720"/>
              <a:ext cx="2960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V =  - GM d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98440" y="4948200"/>
              <a:ext cx="51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70560" y="4033800"/>
              <a:ext cx="884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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89080" y="5229360"/>
              <a:ext cx="38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08000" y="494172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882720" y="304920"/>
            <a:ext cx="55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nother interesting point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88800" y="1349280"/>
            <a:ext cx="141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V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910680" y="1076400"/>
            <a:ext cx="88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0000"/>
                </a:solidFill>
                <a:latin typeface="Symbol"/>
                <a:ea typeface="Symbol"/>
              </a:rPr>
              <a:t>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405320" y="132876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g d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100760" y="23652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83080" y="3081240"/>
            <a:ext cx="50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n be rearranged to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264480" y="3825720"/>
            <a:ext cx="2331000" cy="1549080"/>
            <a:chOff x="3264480" y="3825720"/>
            <a:chExt cx="2331000" cy="1549080"/>
          </a:xfrm>
        </p:grpSpPr>
        <p:sp>
          <p:nvSpPr>
            <p:cNvPr id="522" name=""/>
            <p:cNvSpPr/>
            <p:nvPr/>
          </p:nvSpPr>
          <p:spPr>
            <a:xfrm>
              <a:off x="3264480" y="3825720"/>
              <a:ext cx="233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g = - dV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18880" y="454968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d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43280" y="46530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457200" y="533412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The gradient of gravitational potential is gravitational field streng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104720" y="533520"/>
            <a:ext cx="63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381240" y="833400"/>
            <a:ext cx="7150680" cy="1549080"/>
            <a:chOff x="381240" y="833400"/>
            <a:chExt cx="7150680" cy="1549080"/>
          </a:xfrm>
        </p:grpSpPr>
        <p:sp>
          <p:nvSpPr>
            <p:cNvPr id="528" name=""/>
            <p:cNvSpPr/>
            <p:nvPr/>
          </p:nvSpPr>
          <p:spPr>
            <a:xfrm>
              <a:off x="381240" y="914400"/>
              <a:ext cx="389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Gravitational for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23680" y="833400"/>
              <a:ext cx="3108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F = - GMm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16920" y="1557360"/>
              <a:ext cx="579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GB" sz="48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40360" y="16286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80880" y="2768760"/>
            <a:ext cx="6609600" cy="1485360"/>
            <a:chOff x="380880" y="2768760"/>
            <a:chExt cx="6609600" cy="1485360"/>
          </a:xfrm>
        </p:grpSpPr>
        <p:sp>
          <p:nvSpPr>
            <p:cNvPr id="533" name=""/>
            <p:cNvSpPr/>
            <p:nvPr/>
          </p:nvSpPr>
          <p:spPr>
            <a:xfrm>
              <a:off x="4423320" y="2768760"/>
              <a:ext cx="2567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g = - GM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81680" y="35053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01280" y="3429000"/>
              <a:ext cx="579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GB" sz="48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0880" y="2819520"/>
              <a:ext cx="283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Gravitational field strengt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80880" y="4724280"/>
            <a:ext cx="6685200" cy="1401480"/>
            <a:chOff x="380880" y="4724280"/>
            <a:chExt cx="6685200" cy="1401480"/>
          </a:xfrm>
        </p:grpSpPr>
        <p:sp>
          <p:nvSpPr>
            <p:cNvPr id="538" name=""/>
            <p:cNvSpPr/>
            <p:nvPr/>
          </p:nvSpPr>
          <p:spPr>
            <a:xfrm>
              <a:off x="4430160" y="4724280"/>
              <a:ext cx="2635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V = - GM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40360" y="5445000"/>
              <a:ext cx="106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229440" y="5300640"/>
              <a:ext cx="38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0880" y="4800600"/>
              <a:ext cx="283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Gravitational potenti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2133360" y="380880"/>
            <a:ext cx="43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Energy con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530360" y="1484280"/>
            <a:ext cx="6111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Arial"/>
              </a:rPr>
              <a:t>kinetic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Arial"/>
              </a:rPr>
              <a:t>pot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843200" y="2637000"/>
            <a:ext cx="5486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gh = E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- ½mv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881360" y="386064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gh = constant - ½v</a:t>
            </a:r>
            <a:r>
              <a:rPr b="0" lang="en-GB" sz="4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150000" y="5157720"/>
            <a:ext cx="28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en-GB" sz="5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 -½v</a:t>
            </a:r>
            <a:r>
              <a:rPr b="0" lang="en-GB" sz="5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600200" y="9144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600200" y="9144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17520" y="20574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-½v</a:t>
            </a:r>
            <a:r>
              <a:rPr b="0" lang="en-GB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2720" y="2779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411880" y="20574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019920" y="9144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019920" y="9144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012080" y="2779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828800" y="1066680"/>
            <a:ext cx="2057400" cy="259092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1296" y="0"/>
                </a:moveTo>
                <a:lnTo>
                  <a:pt x="672" y="48"/>
                </a:lnTo>
                <a:lnTo>
                  <a:pt x="96" y="528"/>
                </a:lnTo>
                <a:lnTo>
                  <a:pt x="0" y="163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52480" y="1143000"/>
            <a:ext cx="1905120" cy="2209680"/>
          </a:xfrm>
          <a:custGeom>
            <a:avLst/>
            <a:gdLst/>
            <a:ahLst/>
            <a:rect l="l" t="t" r="r" b="b"/>
            <a:pathLst>
              <a:path w="1200" h="1392">
                <a:moveTo>
                  <a:pt x="1200" y="0"/>
                </a:moveTo>
                <a:cubicBezTo>
                  <a:pt x="956" y="8"/>
                  <a:pt x="712" y="16"/>
                  <a:pt x="528" y="96"/>
                </a:cubicBezTo>
                <a:cubicBezTo>
                  <a:pt x="344" y="176"/>
                  <a:pt x="184" y="264"/>
                  <a:pt x="96" y="480"/>
                </a:cubicBezTo>
                <a:cubicBezTo>
                  <a:pt x="8" y="696"/>
                  <a:pt x="4" y="1044"/>
                  <a:pt x="0" y="1392"/>
                </a:cubicBezTo>
              </a:path>
            </a:pathLst>
          </a:custGeom>
          <a:noFill/>
          <a:ln w="38160">
            <a:solidFill>
              <a:srgbClr val="99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72200" y="1143000"/>
            <a:ext cx="1905120" cy="2209680"/>
          </a:xfrm>
          <a:custGeom>
            <a:avLst/>
            <a:gdLst/>
            <a:ahLst/>
            <a:rect l="l" t="t" r="r" b="b"/>
            <a:pathLst>
              <a:path w="1200" h="1392">
                <a:moveTo>
                  <a:pt x="1200" y="0"/>
                </a:moveTo>
                <a:cubicBezTo>
                  <a:pt x="956" y="8"/>
                  <a:pt x="712" y="16"/>
                  <a:pt x="528" y="96"/>
                </a:cubicBezTo>
                <a:cubicBezTo>
                  <a:pt x="344" y="176"/>
                  <a:pt x="184" y="264"/>
                  <a:pt x="96" y="480"/>
                </a:cubicBezTo>
                <a:cubicBezTo>
                  <a:pt x="8" y="696"/>
                  <a:pt x="4" y="1044"/>
                  <a:pt x="0" y="1392"/>
                </a:cubicBezTo>
              </a:path>
            </a:pathLst>
          </a:custGeom>
          <a:noFill/>
          <a:ln w="38160">
            <a:solidFill>
              <a:srgbClr val="99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495680" y="22096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495680" y="23623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495680" y="251460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142640" y="4724280"/>
            <a:ext cx="66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gradient of either graph is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886200" y="3495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5194440" y="1362240"/>
            <a:ext cx="3797280" cy="2857320"/>
          </a:xfrm>
          <a:custGeom>
            <a:avLst/>
            <a:gdLst/>
            <a:ahLst/>
            <a:rect l="l" t="t" r="r" b="b"/>
            <a:pathLst>
              <a:path w="2392" h="1800">
                <a:moveTo>
                  <a:pt x="40" y="1776"/>
                </a:moveTo>
                <a:cubicBezTo>
                  <a:pt x="20" y="1788"/>
                  <a:pt x="0" y="1800"/>
                  <a:pt x="40" y="1680"/>
                </a:cubicBezTo>
                <a:cubicBezTo>
                  <a:pt x="80" y="1560"/>
                  <a:pt x="168" y="1240"/>
                  <a:pt x="280" y="1056"/>
                </a:cubicBezTo>
                <a:cubicBezTo>
                  <a:pt x="392" y="872"/>
                  <a:pt x="496" y="720"/>
                  <a:pt x="712" y="576"/>
                </a:cubicBezTo>
                <a:cubicBezTo>
                  <a:pt x="928" y="432"/>
                  <a:pt x="1296" y="288"/>
                  <a:pt x="1576" y="192"/>
                </a:cubicBezTo>
                <a:cubicBezTo>
                  <a:pt x="1856" y="96"/>
                  <a:pt x="2248" y="0"/>
                  <a:pt x="23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152280" y="1362240"/>
            <a:ext cx="3797280" cy="2857320"/>
          </a:xfrm>
          <a:custGeom>
            <a:avLst/>
            <a:gdLst/>
            <a:ahLst/>
            <a:rect l="l" t="t" r="r" b="b"/>
            <a:pathLst>
              <a:path w="2392" h="1800">
                <a:moveTo>
                  <a:pt x="40" y="1776"/>
                </a:moveTo>
                <a:cubicBezTo>
                  <a:pt x="20" y="1788"/>
                  <a:pt x="0" y="1800"/>
                  <a:pt x="40" y="1680"/>
                </a:cubicBezTo>
                <a:cubicBezTo>
                  <a:pt x="80" y="1560"/>
                  <a:pt x="168" y="1240"/>
                  <a:pt x="280" y="1056"/>
                </a:cubicBezTo>
                <a:cubicBezTo>
                  <a:pt x="392" y="872"/>
                  <a:pt x="496" y="720"/>
                  <a:pt x="712" y="576"/>
                </a:cubicBezTo>
                <a:cubicBezTo>
                  <a:pt x="928" y="432"/>
                  <a:pt x="1296" y="288"/>
                  <a:pt x="1576" y="192"/>
                </a:cubicBezTo>
                <a:cubicBezTo>
                  <a:pt x="1856" y="96"/>
                  <a:pt x="2248" y="0"/>
                  <a:pt x="23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1447920" y="1590840"/>
            <a:ext cx="6248160" cy="1752480"/>
            <a:chOff x="1447920" y="1590840"/>
            <a:chExt cx="6248160" cy="1752480"/>
          </a:xfrm>
        </p:grpSpPr>
        <p:sp>
          <p:nvSpPr>
            <p:cNvPr id="566" name=""/>
            <p:cNvSpPr/>
            <p:nvPr/>
          </p:nvSpPr>
          <p:spPr>
            <a:xfrm>
              <a:off x="3581280" y="3191040"/>
              <a:ext cx="1981440" cy="15228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52680" y="2657520"/>
              <a:ext cx="2514600" cy="1526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66880" y="2124360"/>
              <a:ext cx="3810240" cy="15228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47920" y="1590840"/>
              <a:ext cx="6248160" cy="15228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 flipV="1">
            <a:off x="4572000" y="136224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128592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242400" y="620640"/>
            <a:ext cx="26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V = 0, r = </a:t>
            </a:r>
            <a:r>
              <a:rPr b="0" lang="en-GB" sz="40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238720" y="3944880"/>
            <a:ext cx="35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V = -62.5MJ kg</a:t>
            </a:r>
            <a:r>
              <a:rPr b="0" lang="en-GB" sz="36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692000" y="5734080"/>
            <a:ext cx="69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nergy required to get out of h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977480" y="4581360"/>
            <a:ext cx="6665400" cy="1002960"/>
            <a:chOff x="1977480" y="4581360"/>
            <a:chExt cx="6665400" cy="1002960"/>
          </a:xfrm>
        </p:grpSpPr>
        <p:sp>
          <p:nvSpPr>
            <p:cNvPr id="576" name=""/>
            <p:cNvSpPr/>
            <p:nvPr/>
          </p:nvSpPr>
          <p:spPr>
            <a:xfrm>
              <a:off x="1977480" y="4941720"/>
              <a:ext cx="666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Energy gained if falling into ho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588000" y="4581360"/>
              <a:ext cx="289080" cy="4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179640" y="189000"/>
            <a:ext cx="33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Escape velo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2681280" y="1197000"/>
            <a:ext cx="3816000" cy="5038560"/>
            <a:chOff x="2681280" y="1197000"/>
            <a:chExt cx="3816000" cy="5038560"/>
          </a:xfrm>
        </p:grpSpPr>
        <p:grpSp>
          <p:nvGrpSpPr>
            <p:cNvPr id="123" name=""/>
            <p:cNvGrpSpPr/>
            <p:nvPr/>
          </p:nvGrpSpPr>
          <p:grpSpPr>
            <a:xfrm>
              <a:off x="2681280" y="1892160"/>
              <a:ext cx="3816000" cy="3822480"/>
              <a:chOff x="2681280" y="1892160"/>
              <a:chExt cx="3816000" cy="3822480"/>
            </a:xfrm>
          </p:grpSpPr>
          <p:sp>
            <p:nvSpPr>
              <p:cNvPr id="124" name=""/>
              <p:cNvSpPr/>
              <p:nvPr/>
            </p:nvSpPr>
            <p:spPr>
              <a:xfrm>
                <a:off x="2681280" y="1892160"/>
                <a:ext cx="423360" cy="382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73920" y="1892160"/>
                <a:ext cx="423360" cy="3822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104640" y="1197000"/>
              <a:ext cx="3180600" cy="5038560"/>
              <a:chOff x="3104640" y="1197000"/>
              <a:chExt cx="3180600" cy="503856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3104640" y="2066040"/>
                <a:ext cx="2968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104640" y="2847600"/>
                <a:ext cx="2968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104640" y="3629880"/>
                <a:ext cx="2968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104640" y="4411080"/>
                <a:ext cx="2968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104640" y="5193360"/>
                <a:ext cx="2968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05000" y="1197000"/>
                <a:ext cx="3180240" cy="695160"/>
              </a:xfrm>
              <a:custGeom>
                <a:avLst/>
                <a:gdLst/>
                <a:ahLst/>
                <a:rect l="l" t="t" r="r" b="b"/>
                <a:pathLst>
                  <a:path w="720" h="192">
                    <a:moveTo>
                      <a:pt x="720" y="192"/>
                    </a:moveTo>
                    <a:cubicBezTo>
                      <a:pt x="588" y="96"/>
                      <a:pt x="456" y="0"/>
                      <a:pt x="336" y="0"/>
                    </a:cubicBezTo>
                    <a:cubicBezTo>
                      <a:pt x="216" y="0"/>
                      <a:pt x="40" y="160"/>
                      <a:pt x="0" y="192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05000" y="5714640"/>
                <a:ext cx="2968920" cy="520920"/>
              </a:xfrm>
              <a:custGeom>
                <a:avLst/>
                <a:gdLst/>
                <a:ahLst/>
                <a:rect l="l" t="t" r="r" b="b"/>
                <a:pathLst>
                  <a:path w="672" h="144">
                    <a:moveTo>
                      <a:pt x="672" y="0"/>
                    </a:moveTo>
                    <a:cubicBezTo>
                      <a:pt x="560" y="72"/>
                      <a:pt x="448" y="144"/>
                      <a:pt x="336" y="144"/>
                    </a:cubicBezTo>
                    <a:cubicBezTo>
                      <a:pt x="224" y="144"/>
                      <a:pt x="112" y="72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5705280" y="1052640"/>
            <a:ext cx="3529080" cy="1068840"/>
            <a:chOff x="5705280" y="1052640"/>
            <a:chExt cx="3529080" cy="1068840"/>
          </a:xfrm>
        </p:grpSpPr>
        <p:sp>
          <p:nvSpPr>
            <p:cNvPr id="135" name=""/>
            <p:cNvSpPr/>
            <p:nvPr/>
          </p:nvSpPr>
          <p:spPr>
            <a:xfrm>
              <a:off x="6567480" y="1052640"/>
              <a:ext cx="2666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Field strength l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705280" y="1484280"/>
              <a:ext cx="90468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77840" y="257040"/>
            <a:ext cx="88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es of equipotential – no work done on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401640" y="907920"/>
            <a:ext cx="2448000" cy="5473800"/>
            <a:chOff x="3401640" y="907920"/>
            <a:chExt cx="2448000" cy="5473800"/>
          </a:xfrm>
        </p:grpSpPr>
        <p:sp>
          <p:nvSpPr>
            <p:cNvPr id="139" name=""/>
            <p:cNvSpPr/>
            <p:nvPr/>
          </p:nvSpPr>
          <p:spPr>
            <a:xfrm>
              <a:off x="5418000" y="2060640"/>
              <a:ext cx="0" cy="316872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26000" y="1125360"/>
              <a:ext cx="0" cy="525636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33640" y="2060640"/>
              <a:ext cx="0" cy="316872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8000" y="5229360"/>
              <a:ext cx="431640" cy="1152360"/>
            </a:xfrm>
            <a:custGeom>
              <a:avLst/>
              <a:gdLst/>
              <a:ahLst/>
              <a:rect l="l" t="t" r="r" b="b"/>
              <a:pathLst>
                <a:path w="272" h="726">
                  <a:moveTo>
                    <a:pt x="0" y="0"/>
                  </a:moveTo>
                  <a:cubicBezTo>
                    <a:pt x="0" y="98"/>
                    <a:pt x="0" y="197"/>
                    <a:pt x="45" y="318"/>
                  </a:cubicBezTo>
                  <a:cubicBezTo>
                    <a:pt x="90" y="439"/>
                    <a:pt x="181" y="582"/>
                    <a:pt x="272" y="726"/>
                  </a:cubicBezTo>
                </a:path>
              </a:pathLst>
            </a:custGeom>
            <a:noFill/>
            <a:ln w="381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418000" y="907920"/>
              <a:ext cx="431640" cy="1152720"/>
            </a:xfrm>
            <a:custGeom>
              <a:avLst/>
              <a:gdLst/>
              <a:ahLst/>
              <a:rect l="l" t="t" r="r" b="b"/>
              <a:pathLst>
                <a:path w="272" h="726">
                  <a:moveTo>
                    <a:pt x="0" y="0"/>
                  </a:moveTo>
                  <a:cubicBezTo>
                    <a:pt x="0" y="98"/>
                    <a:pt x="0" y="197"/>
                    <a:pt x="45" y="318"/>
                  </a:cubicBezTo>
                  <a:cubicBezTo>
                    <a:pt x="90" y="439"/>
                    <a:pt x="181" y="582"/>
                    <a:pt x="272" y="726"/>
                  </a:cubicBezTo>
                </a:path>
              </a:pathLst>
            </a:custGeom>
            <a:noFill/>
            <a:ln w="381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3401280" y="907920"/>
              <a:ext cx="431640" cy="1152720"/>
            </a:xfrm>
            <a:custGeom>
              <a:avLst/>
              <a:gdLst/>
              <a:ahLst/>
              <a:rect l="l" t="t" r="r" b="b"/>
              <a:pathLst>
                <a:path w="272" h="726">
                  <a:moveTo>
                    <a:pt x="0" y="0"/>
                  </a:moveTo>
                  <a:cubicBezTo>
                    <a:pt x="0" y="98"/>
                    <a:pt x="0" y="197"/>
                    <a:pt x="45" y="318"/>
                  </a:cubicBezTo>
                  <a:cubicBezTo>
                    <a:pt x="90" y="439"/>
                    <a:pt x="181" y="582"/>
                    <a:pt x="272" y="726"/>
                  </a:cubicBezTo>
                </a:path>
              </a:pathLst>
            </a:custGeom>
            <a:noFill/>
            <a:ln w="381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401280" y="5229360"/>
              <a:ext cx="431640" cy="1152360"/>
            </a:xfrm>
            <a:custGeom>
              <a:avLst/>
              <a:gdLst/>
              <a:ahLst/>
              <a:rect l="l" t="t" r="r" b="b"/>
              <a:pathLst>
                <a:path w="272" h="726">
                  <a:moveTo>
                    <a:pt x="0" y="0"/>
                  </a:moveTo>
                  <a:cubicBezTo>
                    <a:pt x="0" y="98"/>
                    <a:pt x="0" y="197"/>
                    <a:pt x="45" y="318"/>
                  </a:cubicBezTo>
                  <a:cubicBezTo>
                    <a:pt x="90" y="439"/>
                    <a:pt x="181" y="582"/>
                    <a:pt x="272" y="726"/>
                  </a:cubicBezTo>
                </a:path>
              </a:pathLst>
            </a:custGeom>
            <a:noFill/>
            <a:ln w="381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435280" y="2781360"/>
            <a:ext cx="3529440" cy="1373760"/>
            <a:chOff x="5435280" y="2781360"/>
            <a:chExt cx="3529440" cy="1373760"/>
          </a:xfrm>
        </p:grpSpPr>
        <p:sp>
          <p:nvSpPr>
            <p:cNvPr id="147" name=""/>
            <p:cNvSpPr/>
            <p:nvPr/>
          </p:nvSpPr>
          <p:spPr>
            <a:xfrm>
              <a:off x="6588000" y="2781360"/>
              <a:ext cx="2376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quipotential, 90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to field strength lin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435280" y="3068640"/>
              <a:ext cx="1152360" cy="7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-108000" y="1989000"/>
            <a:ext cx="284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quipotentials in a uniform field will be equally spa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09800" y="5475240"/>
            <a:ext cx="5716440" cy="1362600"/>
            <a:chOff x="1909800" y="5475240"/>
            <a:chExt cx="5716440" cy="1362600"/>
          </a:xfrm>
        </p:grpSpPr>
        <p:sp>
          <p:nvSpPr>
            <p:cNvPr id="151" name=""/>
            <p:cNvSpPr/>
            <p:nvPr/>
          </p:nvSpPr>
          <p:spPr>
            <a:xfrm>
              <a:off x="1909800" y="547704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cc33"/>
                  </a:solidFill>
                  <a:latin typeface="Arial"/>
                </a:rPr>
                <a:t>0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97640" y="5475240"/>
              <a:ext cx="11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cc33"/>
                  </a:solidFill>
                  <a:latin typeface="Arial"/>
                </a:rPr>
                <a:t>800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28720" y="6256440"/>
              <a:ext cx="11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cc33"/>
                  </a:solidFill>
                  <a:latin typeface="Arial"/>
                </a:rPr>
                <a:t>200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17960" y="6256440"/>
              <a:ext cx="11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cc33"/>
                  </a:solidFill>
                  <a:latin typeface="Arial"/>
                </a:rPr>
                <a:t>400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81440" y="6256440"/>
              <a:ext cx="11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cc33"/>
                  </a:solidFill>
                  <a:latin typeface="Arial"/>
                </a:rPr>
                <a:t>600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6037200" y="1498680"/>
            <a:ext cx="669960" cy="6350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6675480" y="511200"/>
            <a:ext cx="1854000" cy="1322280"/>
          </a:xfrm>
          <a:custGeom>
            <a:avLst/>
            <a:gdLst/>
            <a:ahLst/>
            <a:rect l="l" t="t" r="r" b="b"/>
            <a:pathLst>
              <a:path w="2392" h="1800">
                <a:moveTo>
                  <a:pt x="40" y="1776"/>
                </a:moveTo>
                <a:cubicBezTo>
                  <a:pt x="20" y="1788"/>
                  <a:pt x="0" y="1800"/>
                  <a:pt x="40" y="1680"/>
                </a:cubicBezTo>
                <a:cubicBezTo>
                  <a:pt x="80" y="1560"/>
                  <a:pt x="168" y="1240"/>
                  <a:pt x="280" y="1056"/>
                </a:cubicBezTo>
                <a:cubicBezTo>
                  <a:pt x="392" y="872"/>
                  <a:pt x="496" y="720"/>
                  <a:pt x="712" y="576"/>
                </a:cubicBezTo>
                <a:cubicBezTo>
                  <a:pt x="928" y="432"/>
                  <a:pt x="1296" y="288"/>
                  <a:pt x="1576" y="192"/>
                </a:cubicBezTo>
                <a:cubicBezTo>
                  <a:pt x="1856" y="96"/>
                  <a:pt x="2248" y="0"/>
                  <a:pt x="23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4214880" y="511200"/>
            <a:ext cx="1854000" cy="1322280"/>
          </a:xfrm>
          <a:custGeom>
            <a:avLst/>
            <a:gdLst/>
            <a:ahLst/>
            <a:rect l="l" t="t" r="r" b="b"/>
            <a:pathLst>
              <a:path w="2392" h="1800">
                <a:moveTo>
                  <a:pt x="40" y="1776"/>
                </a:moveTo>
                <a:cubicBezTo>
                  <a:pt x="20" y="1788"/>
                  <a:pt x="0" y="1800"/>
                  <a:pt x="40" y="1680"/>
                </a:cubicBezTo>
                <a:cubicBezTo>
                  <a:pt x="80" y="1560"/>
                  <a:pt x="168" y="1240"/>
                  <a:pt x="280" y="1056"/>
                </a:cubicBezTo>
                <a:cubicBezTo>
                  <a:pt x="392" y="872"/>
                  <a:pt x="496" y="720"/>
                  <a:pt x="712" y="576"/>
                </a:cubicBezTo>
                <a:cubicBezTo>
                  <a:pt x="928" y="432"/>
                  <a:pt x="1296" y="288"/>
                  <a:pt x="1576" y="192"/>
                </a:cubicBezTo>
                <a:cubicBezTo>
                  <a:pt x="1856" y="96"/>
                  <a:pt x="2248" y="0"/>
                  <a:pt x="23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4846680" y="617400"/>
            <a:ext cx="3051000" cy="811080"/>
            <a:chOff x="4846680" y="617400"/>
            <a:chExt cx="3051000" cy="811080"/>
          </a:xfrm>
        </p:grpSpPr>
        <p:sp>
          <p:nvSpPr>
            <p:cNvPr id="583" name=""/>
            <p:cNvSpPr/>
            <p:nvPr/>
          </p:nvSpPr>
          <p:spPr>
            <a:xfrm>
              <a:off x="5888160" y="1358280"/>
              <a:ext cx="967320" cy="70200"/>
            </a:xfrm>
            <a:prstGeom prst="ellipse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76560" y="1111320"/>
              <a:ext cx="1227960" cy="70560"/>
            </a:xfrm>
            <a:prstGeom prst="ellipse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41760" y="864360"/>
              <a:ext cx="1860480" cy="70200"/>
            </a:xfrm>
            <a:prstGeom prst="ellipse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46680" y="617400"/>
              <a:ext cx="3051000" cy="70200"/>
            </a:xfrm>
            <a:prstGeom prst="ellipse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6372360" y="510840"/>
            <a:ext cx="0" cy="987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40360" y="476280"/>
            <a:ext cx="446400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52360" y="907920"/>
            <a:ext cx="527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tionary object (v = 0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t V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124000" y="2205000"/>
            <a:ext cx="410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½mv</a:t>
            </a:r>
            <a:r>
              <a:rPr b="0" lang="en-GB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+ mV = E</a:t>
            </a:r>
            <a:r>
              <a:rPr b="0" lang="en-GB" sz="3600" spc="-1" strike="noStrike" baseline="-25000">
                <a:solidFill>
                  <a:srgbClr val="ff0000"/>
                </a:solidFill>
                <a:latin typeface="Arial"/>
              </a:rPr>
              <a:t>To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31280" y="333360"/>
            <a:ext cx="217440" cy="217440"/>
          </a:xfrm>
          <a:prstGeom prst="ellipse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50920" y="3789360"/>
            <a:ext cx="67690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udge object into well, E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.E. increases as P.E. become more -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183120" y="29242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0 + 0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526480" y="5091120"/>
            <a:ext cx="32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½mv</a:t>
            </a:r>
            <a:r>
              <a:rPr b="0" lang="en-GB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+ mV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843280" y="5811840"/>
            <a:ext cx="2666880" cy="642600"/>
            <a:chOff x="2843280" y="5811840"/>
            <a:chExt cx="2666880" cy="642600"/>
          </a:xfrm>
        </p:grpSpPr>
        <p:sp>
          <p:nvSpPr>
            <p:cNvPr id="596" name=""/>
            <p:cNvSpPr/>
            <p:nvPr/>
          </p:nvSpPr>
          <p:spPr>
            <a:xfrm>
              <a:off x="2843280" y="5811840"/>
              <a:ext cx="26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v </a:t>
              </a:r>
              <a:r>
                <a:rPr b="1" lang="en-GB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 -2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22920" y="5883120"/>
              <a:ext cx="936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4140360" y="6021360"/>
            <a:ext cx="2761200" cy="588960"/>
            <a:chOff x="4140360" y="6021360"/>
            <a:chExt cx="2761200" cy="588960"/>
          </a:xfrm>
        </p:grpSpPr>
        <p:sp>
          <p:nvSpPr>
            <p:cNvPr id="599" name=""/>
            <p:cNvSpPr/>
            <p:nvPr/>
          </p:nvSpPr>
          <p:spPr>
            <a:xfrm>
              <a:off x="5364360" y="6021360"/>
              <a:ext cx="153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Arial"/>
                </a:rPr>
                <a:t>V is -v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40360" y="6308640"/>
              <a:ext cx="1295280" cy="301680"/>
            </a:xfrm>
            <a:custGeom>
              <a:avLst/>
              <a:gdLst/>
              <a:ahLst/>
              <a:rect l="l" t="t" r="r" b="b"/>
              <a:pathLst>
                <a:path w="816" h="190">
                  <a:moveTo>
                    <a:pt x="816" y="46"/>
                  </a:moveTo>
                  <a:cubicBezTo>
                    <a:pt x="680" y="118"/>
                    <a:pt x="544" y="190"/>
                    <a:pt x="408" y="182"/>
                  </a:cubicBezTo>
                  <a:cubicBezTo>
                    <a:pt x="272" y="174"/>
                    <a:pt x="136" y="87"/>
                    <a:pt x="0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2197080" y="278136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3" dur="500" autoRev="1" fill="hold"/>
                                        <p:tgtEl>
                                          <p:spTgt spid="5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8148E-006 C -0.02465 0.00209 -0.04913 0.0044 -0.07274 0.01273 C -0.09635 0.02107 -0.12239 0.03542 -0.14201 0.04931 C -0.16163 0.0632 -0.17864 0.07639 -0.19045 0.09676 C -0.20225 0.11713 -0.20763 0.14445 -0.21302 0.17199 E">
                                      <p:cBhvr>
                                        <p:cTn id="681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5" dur="250" autoRev="1" fill="hold"/>
                                        <p:tgtEl>
                                          <p:spTgt spid="5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289080" y="685800"/>
            <a:ext cx="867564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At Earth’s surface V = -62.5MJ kg</a:t>
            </a:r>
            <a:r>
              <a:rPr b="0" lang="en-GB" sz="36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0" lang="en-GB" sz="3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, a 1kg mass will hit the ground at ~11km s</a:t>
            </a:r>
            <a:r>
              <a:rPr b="0" lang="en-GB" sz="3600" spc="-1" strike="noStrike" baseline="30000">
                <a:solidFill>
                  <a:srgbClr val="ff0000"/>
                </a:solidFill>
                <a:latin typeface="Arial"/>
              </a:rPr>
              <a:t>-1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if nudged into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89800" y="3200400"/>
            <a:ext cx="28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onversely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89080" y="4038480"/>
            <a:ext cx="862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A 1kg mass launched at 11km s</a:t>
            </a:r>
            <a:r>
              <a:rPr b="0" lang="en-GB" sz="36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 will </a:t>
            </a:r>
            <a:r>
              <a:rPr b="0" lang="en-GB" sz="3600" spc="-1" strike="noStrike" u="sng">
                <a:solidFill>
                  <a:srgbClr val="333399"/>
                </a:solidFill>
                <a:uFillTx/>
                <a:latin typeface="Arial"/>
              </a:rPr>
              <a:t>just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 make it to V = 0, the brim of the potential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33200" y="5715000"/>
            <a:ext cx="5484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1km s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 escape velo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960280" y="907920"/>
            <a:ext cx="29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9900cc"/>
                </a:solidFill>
                <a:uFillTx/>
                <a:latin typeface="Arial"/>
              </a:rPr>
              <a:t>Electric 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6480" y="2852640"/>
            <a:ext cx="86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9900cc"/>
                </a:solidFill>
                <a:latin typeface="Arial"/>
              </a:rPr>
              <a:t>May be attractive (-ve) or repulsive (+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6480" y="1989000"/>
            <a:ext cx="60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9900cc"/>
                </a:solidFill>
                <a:latin typeface="Arial"/>
              </a:rPr>
              <a:t>Force between two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99320" y="4971960"/>
            <a:ext cx="249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Units =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34360" y="3914640"/>
            <a:ext cx="30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Symbol = 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7840" y="189000"/>
            <a:ext cx="51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Describing a uniform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68720" y="896760"/>
            <a:ext cx="46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9900cc"/>
                </a:solidFill>
                <a:uFillTx/>
                <a:latin typeface="Arial"/>
              </a:rPr>
              <a:t>Electric Field Str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720" y="16095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9900cc"/>
                </a:solidFill>
                <a:latin typeface="Arial"/>
              </a:rPr>
              <a:t>Force per unit +ve ch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360" y="2852640"/>
            <a:ext cx="30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Symbol =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6520" y="3933720"/>
            <a:ext cx="306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Unit = N C</a:t>
            </a:r>
            <a:r>
              <a:rPr b="0" lang="en-GB" sz="44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837440" y="5084640"/>
            <a:ext cx="1671480" cy="1528200"/>
            <a:chOff x="1837440" y="5084640"/>
            <a:chExt cx="1671480" cy="1528200"/>
          </a:xfrm>
        </p:grpSpPr>
        <p:sp>
          <p:nvSpPr>
            <p:cNvPr id="167" name=""/>
            <p:cNvSpPr/>
            <p:nvPr/>
          </p:nvSpPr>
          <p:spPr>
            <a:xfrm>
              <a:off x="1837440" y="5084640"/>
              <a:ext cx="1654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E = F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89800" y="578772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87640" y="5859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486400" y="227664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Important due to repulsive/attractive nature of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7840" y="189000"/>
            <a:ext cx="51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Describing a uniform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32360" y="2276640"/>
            <a:ext cx="503280" cy="599760"/>
          </a:xfrm>
          <a:custGeom>
            <a:avLst/>
            <a:gdLst/>
            <a:ahLst/>
            <a:rect l="l" t="t" r="r" b="b"/>
            <a:pathLst>
              <a:path w="317" h="378">
                <a:moveTo>
                  <a:pt x="0" y="0"/>
                </a:moveTo>
                <a:cubicBezTo>
                  <a:pt x="34" y="189"/>
                  <a:pt x="68" y="378"/>
                  <a:pt x="317" y="363"/>
                </a:cubicBezTo>
              </a:path>
            </a:pathLst>
          </a:custGeom>
          <a:noFill/>
          <a:ln w="7632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274920" y="4077720"/>
            <a:ext cx="289080" cy="1295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5364720" y="4077360"/>
            <a:ext cx="285840" cy="1297080"/>
          </a:xfrm>
          <a:custGeom>
            <a:avLst/>
            <a:gdLst>
              <a:gd name="textAreaLeft" fmla="*/ 182520 w 285840"/>
              <a:gd name="textAreaRight" fmla="*/ 286200 w 2858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717800" y="5084640"/>
            <a:ext cx="1689480" cy="1528560"/>
            <a:chOff x="4717800" y="5084640"/>
            <a:chExt cx="1689480" cy="1528560"/>
          </a:xfrm>
        </p:grpSpPr>
        <p:sp>
          <p:nvSpPr>
            <p:cNvPr id="176" name=""/>
            <p:cNvSpPr/>
            <p:nvPr/>
          </p:nvSpPr>
          <p:spPr>
            <a:xfrm>
              <a:off x="4717800" y="5084640"/>
              <a:ext cx="1689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E = V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50720" y="578808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69080" y="5859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H="1">
            <a:off x="2771280" y="4940280"/>
            <a:ext cx="576360" cy="28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4941720"/>
            <a:ext cx="142920" cy="35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7800" y="3933720"/>
            <a:ext cx="211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or V m</a:t>
            </a:r>
            <a:r>
              <a:rPr b="0" lang="en-GB" sz="44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372000" y="6035760"/>
            <a:ext cx="2772000" cy="825480"/>
            <a:chOff x="6372000" y="6035760"/>
            <a:chExt cx="2772000" cy="825480"/>
          </a:xfrm>
        </p:grpSpPr>
        <p:sp>
          <p:nvSpPr>
            <p:cNvPr id="183" name=""/>
            <p:cNvSpPr/>
            <p:nvPr/>
          </p:nvSpPr>
          <p:spPr>
            <a:xfrm>
              <a:off x="6407280" y="6035760"/>
              <a:ext cx="273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istance between charges (plate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6372000" y="6308640"/>
              <a:ext cx="360360" cy="14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073240" y="116856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9900cc"/>
                </a:solidFill>
                <a:uFillTx/>
                <a:latin typeface="Arial"/>
              </a:rPr>
              <a:t>Electric Potential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19242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9900cc"/>
                </a:solidFill>
                <a:latin typeface="Arial"/>
              </a:rPr>
              <a:t>Energy of a +ve charged particle (q) due its position in an electric fi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8720" y="409572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Units = C V = 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1240" y="3301920"/>
            <a:ext cx="34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ymbol = E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5040" y="5114880"/>
            <a:ext cx="262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EPE = q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7840" y="189000"/>
            <a:ext cx="51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Describing a uniform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99840" y="304920"/>
            <a:ext cx="59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cceleration due to electr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362320" y="1447920"/>
            <a:ext cx="4417560" cy="2791080"/>
            <a:chOff x="2362320" y="1447920"/>
            <a:chExt cx="4417560" cy="2791080"/>
          </a:xfrm>
        </p:grpSpPr>
        <p:grpSp>
          <p:nvGrpSpPr>
            <p:cNvPr id="193" name=""/>
            <p:cNvGrpSpPr/>
            <p:nvPr/>
          </p:nvGrpSpPr>
          <p:grpSpPr>
            <a:xfrm>
              <a:off x="2362320" y="1676880"/>
              <a:ext cx="3959640" cy="2458440"/>
              <a:chOff x="2362320" y="1676880"/>
              <a:chExt cx="3959640" cy="245844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2908440" y="1676880"/>
                <a:ext cx="3003840" cy="2458440"/>
                <a:chOff x="2908440" y="1676880"/>
                <a:chExt cx="3003840" cy="2458440"/>
              </a:xfrm>
            </p:grpSpPr>
            <p:sp>
              <p:nvSpPr>
                <p:cNvPr id="195" name=""/>
                <p:cNvSpPr/>
                <p:nvPr/>
              </p:nvSpPr>
              <p:spPr>
                <a:xfrm rot="16200000">
                  <a:off x="4273920" y="2496960"/>
                  <a:ext cx="272880" cy="3003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6200000">
                  <a:off x="4273920" y="311400"/>
                  <a:ext cx="272880" cy="30038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362320" y="1814040"/>
                <a:ext cx="3959640" cy="2048400"/>
                <a:chOff x="2362320" y="1814040"/>
                <a:chExt cx="3959640" cy="20484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3045240" y="1950120"/>
                  <a:ext cx="0" cy="191232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659400" y="1950120"/>
                  <a:ext cx="0" cy="191232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274280" y="1950120"/>
                  <a:ext cx="0" cy="191232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888080" y="1950120"/>
                  <a:ext cx="0" cy="191232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02960" y="1950120"/>
                  <a:ext cx="0" cy="191232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6200000">
                  <a:off x="1611000" y="2565000"/>
                  <a:ext cx="2048400" cy="546120"/>
                </a:xfrm>
                <a:custGeom>
                  <a:avLst/>
                  <a:gdLst/>
                  <a:ahLst/>
                  <a:rect l="l" t="t" r="r" b="b"/>
                  <a:pathLst>
                    <a:path w="720" h="192">
                      <a:moveTo>
                        <a:pt x="720" y="192"/>
                      </a:moveTo>
                      <a:cubicBezTo>
                        <a:pt x="588" y="96"/>
                        <a:pt x="456" y="0"/>
                        <a:pt x="336" y="0"/>
                      </a:cubicBezTo>
                      <a:cubicBezTo>
                        <a:pt x="216" y="0"/>
                        <a:pt x="40" y="160"/>
                        <a:pt x="0" y="192"/>
                      </a:cubicBez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6200000">
                  <a:off x="5160960" y="2701440"/>
                  <a:ext cx="1912320" cy="409320"/>
                </a:xfrm>
                <a:custGeom>
                  <a:avLst/>
                  <a:gdLst/>
                  <a:ahLst/>
                  <a:rect l="l" t="t" r="r" b="b"/>
                  <a:pathLst>
                    <a:path w="672" h="144">
                      <a:moveTo>
                        <a:pt x="672" y="0"/>
                      </a:moveTo>
                      <a:cubicBezTo>
                        <a:pt x="560" y="72"/>
                        <a:pt x="448" y="144"/>
                        <a:pt x="336" y="144"/>
                      </a:cubicBezTo>
                      <a:cubicBezTo>
                        <a:pt x="224" y="144"/>
                        <a:pt x="112" y="72"/>
                        <a:pt x="0" y="0"/>
                      </a:cubicBez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" name=""/>
            <p:cNvSpPr/>
            <p:nvPr/>
          </p:nvSpPr>
          <p:spPr>
            <a:xfrm>
              <a:off x="5876640" y="1447920"/>
              <a:ext cx="90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45040" y="365760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202200" y="990720"/>
            <a:ext cx="1954800" cy="1229760"/>
            <a:chOff x="3202200" y="990720"/>
            <a:chExt cx="1954800" cy="1229760"/>
          </a:xfrm>
        </p:grpSpPr>
        <p:sp>
          <p:nvSpPr>
            <p:cNvPr id="208" name=""/>
            <p:cNvSpPr/>
            <p:nvPr/>
          </p:nvSpPr>
          <p:spPr>
            <a:xfrm>
              <a:off x="4535280" y="1931760"/>
              <a:ext cx="28908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02200" y="990720"/>
              <a:ext cx="195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EPE = q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430800" y="3535200"/>
            <a:ext cx="1683360" cy="1313280"/>
            <a:chOff x="3430800" y="3535200"/>
            <a:chExt cx="1683360" cy="1313280"/>
          </a:xfrm>
        </p:grpSpPr>
        <p:sp>
          <p:nvSpPr>
            <p:cNvPr id="211" name=""/>
            <p:cNvSpPr/>
            <p:nvPr/>
          </p:nvSpPr>
          <p:spPr>
            <a:xfrm>
              <a:off x="3430800" y="4267080"/>
              <a:ext cx="168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EPE 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03600" y="353520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066680" y="4800600"/>
            <a:ext cx="67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potential energy =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kinetic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99880" y="5486400"/>
            <a:ext cx="289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qV = ½mv</a:t>
            </a:r>
            <a:r>
              <a:rPr b="0" lang="en-GB" sz="4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762120"/>
            <a:ext cx="838224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70800" y="76212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ant 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1000" y="167652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.E. gained is the same for both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2160" y="2606760"/>
            <a:ext cx="82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locity is different due to difference in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9625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on velocity quickly approaches the speed of light - relativis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240" y="5349960"/>
            <a:ext cx="73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locity equation only valid when v &lt;&lt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12:12:08Z</dcterms:created>
  <dc:creator>PALMER</dc:creator>
  <dc:description/>
  <dc:language>en-US</dc:language>
  <cp:lastModifiedBy>PALMER</cp:lastModifiedBy>
  <dcterms:modified xsi:type="dcterms:W3CDTF">2011-06-19T19:24:39Z</dcterms:modified>
  <cp:revision>3</cp:revision>
  <dc:subject/>
  <dc:title>Slide 1</dc:title>
</cp:coreProperties>
</file>